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76F92-40EC-4942-A128-91D3F156534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C41B4-5E39-4BE4-80B3-303F8FE6F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E0A2A-9C83-4B29-B032-0A90F1C07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21DE1-D83F-4566-9764-AFD437BF3C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25831-9627-48F5-8C4F-EB173FBC2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90B6E-1790-4FF6-953E-06B95E2F5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B37D6-0422-43F7-B3B1-E548E1624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E7062-6A1E-4F8D-A3AF-3699A75D7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E70EE-A984-4E46-AC1A-DC061A2E7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5727E-1DC0-45C4-B36B-2E4FD4653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8D59E-B708-4FA4-95F6-1BE7761B3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AFBB3-DED1-47B1-8151-B3DA68CEA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6986D060-5C33-4184-9C5B-3B2CE07E0941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pnic.net/services/dns_guide.html" TargetMode="External"/><Relationship Id="rId2" Type="http://schemas.openxmlformats.org/officeDocument/2006/relationships/hyperlink" Target="http://www.apnic.net/services/dns_guide.html" TargetMode="External"/><Relationship Id="rId3" Type="http://schemas.openxmlformats.org/officeDocument/2006/relationships/hyperlink" Target="http://www.apnic.net/services/dns_guide.html" TargetMode="External"/><Relationship Id="rId4" Type="http://schemas.openxmlformats.org/officeDocument/2006/relationships/hyperlink" Target="http://www.apnic.net/services/dns_guide.html" TargetMode="External"/><Relationship Id="rId5" Type="http://schemas.openxmlformats.org/officeDocument/2006/relationships/hyperlink" Target="http://www.apnic.net/services/dns_guide.html" TargetMode="External"/><Relationship Id="rId6" Type="http://schemas.openxmlformats.org/officeDocument/2006/relationships/hyperlink" Target="http://www.apnic.net/services/dns_guide.html" TargetMode="External"/><Relationship Id="rId7" Type="http://schemas.openxmlformats.org/officeDocument/2006/relationships/hyperlink" Target="http://www.apnic.net/services/dns_guide.html" TargetMode="External"/><Relationship Id="rId8" Type="http://schemas.openxmlformats.org/officeDocument/2006/relationships/hyperlink" Target="http://www.apnic.net/services/dns_guide.html" TargetMode="External"/><Relationship Id="rId9" Type="http://schemas.openxmlformats.org/officeDocument/2006/relationships/hyperlink" Target="http://www.apnic.net/services/dns_guide.html" TargetMode="External"/><Relationship Id="rId10" Type="http://schemas.openxmlformats.org/officeDocument/2006/relationships/hyperlink" Target="http://www.apnic.net/services/dns_guide.html" TargetMode="External"/><Relationship Id="rId11" Type="http://schemas.openxmlformats.org/officeDocument/2006/relationships/hyperlink" Target="http://www.apnic.net/db/domain.html" TargetMode="External"/><Relationship Id="rId12" Type="http://schemas.openxmlformats.org/officeDocument/2006/relationships/hyperlink" Target="http://www.apnic.net/db/domain.html" TargetMode="External"/><Relationship Id="rId13" Type="http://schemas.openxmlformats.org/officeDocument/2006/relationships/hyperlink" Target="http://www.apnic.net/db/domain.html" TargetMode="External"/><Relationship Id="rId1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es to nam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vert the decimal represent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.3 maps to 3.1.26.192 and put this under a top level domain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Pv4 this TLD is in-addr.arp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DNS one publishes PTR records to point back to the nam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6760" y="5562720"/>
            <a:ext cx="969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4.0.0.193.in-addr.arpa 3600 IN PTR 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73605-7D8D-4F2C-B28C-F4C04CB15F5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144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188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193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F24DA-1671-4C41-A63B-3E2A8A11161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3352680"/>
            <a:ext cx="12193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6F15C-B4A1-4BE5-9C09-826E9837424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 to names: mapping problem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IPv4 the mapping is done on 8 bit boundaries (class full), address allocation is class l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ion does not always overlap address administ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have a /19 of address space: divide it in /24s and request a delegation for each one of them as soon as you use the address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25 and smaller we will cover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C02F1-971D-4CD9-8D02-8CDB9B6908F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your reverse zones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reverse zone file is a regular zone fil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OA and NS rrs in the APE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ly PTR records in the zone itsel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 zone is served by the masters and sla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9 has a $GENERATE directive that might be hand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2C616-1455-4736-B849-2EC65AA38D6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 reverse zone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1" name=""/>
          <p:cNvSpPr/>
          <p:nvPr/>
        </p:nvSpPr>
        <p:spPr>
          <a:xfrm>
            <a:off x="220320" y="1523880"/>
            <a:ext cx="96904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w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outer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BIND9 auto generate:  65 PTR host65.secret-wg.org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GENERATE 65-127 $ PTR host$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648320" y="3809880"/>
            <a:ext cx="4114800" cy="685440"/>
            <a:chOff x="4648320" y="3809880"/>
            <a:chExt cx="4114800" cy="685440"/>
          </a:xfrm>
        </p:grpSpPr>
        <p:sp>
          <p:nvSpPr>
            <p:cNvPr id="213" name=""/>
            <p:cNvSpPr/>
            <p:nvPr/>
          </p:nvSpPr>
          <p:spPr>
            <a:xfrm flipV="1">
              <a:off x="4648320" y="4266720"/>
              <a:ext cx="25905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67280" y="3809880"/>
              <a:ext cx="289584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ote trailing do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472F5-7643-4C6F-8D34-600B5ABDA913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a reverse 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rocedure is registry depend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or APNIC region read: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.net/db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revdel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5"/>
              </a:rPr>
              <a:t>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6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7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8"/>
              </a:rPr>
              <a:t>.net/services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9"/>
              </a:rPr>
              <a:t>dns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0"/>
              </a:rPr>
              <a:t>_guide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et a delegation from APNIC by filling adding a whois domain object:</a:t>
            </a:r>
            <a:br>
              <a:rPr sz="2400"/>
            </a:b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1"/>
              </a:rPr>
              <a:t>http://www.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2"/>
              </a:rPr>
              <a:t>apnic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3"/>
              </a:rPr>
              <a:t>.net/db/domain.htm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nly /16 and /24 deleg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83A65-C486-4AAB-ACF0-85A54684C9A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ois domain objec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1600200"/>
            <a:ext cx="6858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omain:     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escr:       in-addr.arpa zone for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admin-c: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tech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zone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telstra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rs.arin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my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svc00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by:      MAINT-APNIC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lower:   MAINT-DNS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changed:     inaddr@apnic.net 1999081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ource:      APNIC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C4AB4-F557-4C03-87C7-97D7862352C2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locations smaller than /24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magine a /25 address block delegated to a company by an IS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company wants to maintain the reverse mapping of the address they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reverse DNS one can not delega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'classless inaddr' technique described in RFC 2317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the use of CNAME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NAME provide a means to alias names to another namespa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4D389-2C58-4633-9F6E-6584E21C4E2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1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34290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0/25   to organization A,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28/26 to organization B and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92/26 to organization 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651120" y="1981080"/>
            <a:ext cx="625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PTR     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PTR     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      PTR     host3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PTR     host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PTR     host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1    PTR     host3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3     PTR     host1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4     PTR     host2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5     PTR     host3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98C71-E05B-470A-92B5-2A38F0D864F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2133720"/>
            <a:ext cx="7621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70304-EFDD-40C9-A390-0048F5D7C11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2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te a ‘sub domain’ for each address block and delegate these to the childre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 the sub domain after the address blo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/25, 128/26, and 190/2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-127, 128-189, 190-255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gA, orgB, org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each name in the zone create a CNAME that points into the delegated namespace e.g.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CNAME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.orgA.2.0.193.inaddr-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26AB9-91AC-463E-876F-2F320E67292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3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arent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1676520"/>
            <a:ext cx="952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my-ns.my.domain. (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my.domain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A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         CNAME   1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         CNAME   2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B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         CNAME   129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         CNAME   130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49AC2-96EA-4E96-909B-2A98A4633290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4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ildren’s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1676520"/>
            <a:ext cx="815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orgA.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ns1.organizationA.com. (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organizationA.com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9A805-0F03-4B04-B233-471753384022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5)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ould also delegate to a forward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ses maintaining consistency in 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3352680"/>
            <a:ext cx="4495680" cy="2837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4      CNAME   in24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5      CNAME   in25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6      CNAME   in26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7      CNAME   in27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8      CNAME   in28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4120" y="3352680"/>
            <a:ext cx="4114800" cy="2837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4  PTR  www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ftp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5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5  PTR  ftp.foo.net.  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ilver A   192.168.1.26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6   PTR   silver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E5C03-7171-496C-B93F-CE65551A707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3276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F9979-1E5A-41BD-A16C-5464AB149CB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28 bi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low order bits “host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.g. a mapping of the hosts’ Ethernet addres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high order bits “network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urther subdivision inside network id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t’s look at notation first, then at further subdivi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EE0FC-1EEE-4630-8E78-F1F38D2390B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Not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6 bit integers (in Hex) separated by col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FEDC:BA98:7654:3210:FEDC:BA98:7654:321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000:0000:0000:0008:0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ading zeros can be skipp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:0:0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secutive NULL 16-bit numbers  </a:t>
            </a:r>
            <a:r>
              <a:rPr b="0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“::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9FFE7-9EB5-465C-A0F5-BCC1A5020C24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globally routable unicast addresses the 1st 3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ts are set to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001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cast addresses are further subdivided in “aggregat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address classes available lik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ink local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e80/10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ulticast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f00/8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ed IPv4 address:   0::ffff:0:0:0:0/96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4B99E-8D1E-4AC7-8507-B73B15E2A7E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410080" y="4038480"/>
            <a:ext cx="3886200" cy="1828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lobally routable unicast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st 3 bits are format pref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st 16 bits of network ID are used for ‘site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/48 assigned to end-user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Rs minimum allocation size: /32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policy still moving targ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60080" y="4249800"/>
            <a:ext cx="8958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3 |           45          |  16|          64 bits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FP|                       |    |         Interface ID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  |                       |    |                 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F4518-6C53-420C-8272-6DAF7964F79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4419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E0390-11F6-470E-B459-EB477B23228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ddresses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umbers to na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just ordinary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standard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op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you might need a little backgrou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re are some convention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s a moving/developing targ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rst IPv4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3269D-1401-48C5-A55A-C65EB79EC70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representation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RR records for name to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AA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6 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ways to map address to DNS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ibble notation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t strings and nibbles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054AC-B2CE-4E21-9401-0C3EA7B16F86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AAA R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o number map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A RR for IPv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s the ‘common’ representation of the addr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" y="3962520"/>
            <a:ext cx="93726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$ORIGIN example.com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host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3600 IN AAAA 2001:238:f00:80:230:65ff:fe28:40f5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2403E-7DF1-4D81-B86B-62F15C81B4E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ibbles in ip6.arp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AMEs and Bitlabels..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480060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3B8A7-1BE5-49DF-BA43-6B7C5A50782C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as with IPv4 the responsibility for maintaining the reverse map can be delegated through the address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umber is translated into 4 bit nibbles under the ip6.arpa (ip6.int) TL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2001:0238::a00:46ff:fe06:1460</a:t>
            </a: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s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18520" y="5257800"/>
            <a:ext cx="9637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10000"/>
                </a:solidFill>
                <a:latin typeface="Courier New"/>
              </a:rPr>
              <a:t>0.6.4.1.6.0.e.f.f.f.6.4.0.0.a.0.0.0.0.0.0.0.0.0.8.3.2.0.1.0.0.2.ip6.arpa.</a:t>
            </a:r>
            <a:endParaRPr b="0" lang="en-US" sz="17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1066320" y="4343400"/>
            <a:ext cx="4876920" cy="7621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209320" y="4267080"/>
            <a:ext cx="297180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3123720" y="4267080"/>
            <a:ext cx="121932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05320" y="4267080"/>
            <a:ext cx="68580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14600" y="4267080"/>
            <a:ext cx="426708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447920" y="4267080"/>
            <a:ext cx="670536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E8D63-E6FF-4BC0-A415-54688CED98C1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269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313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318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6934320" y="4191120"/>
            <a:ext cx="2361960" cy="1973160"/>
            <a:chOff x="6934320" y="4191120"/>
            <a:chExt cx="2361960" cy="1973160"/>
          </a:xfrm>
        </p:grpSpPr>
        <p:sp>
          <p:nvSpPr>
            <p:cNvPr id="329" name=""/>
            <p:cNvSpPr/>
            <p:nvPr/>
          </p:nvSpPr>
          <p:spPr>
            <a:xfrm>
              <a:off x="6934320" y="4267080"/>
              <a:ext cx="2303280" cy="189720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8610480" y="419112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68680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8229240" y="419112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845784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391520" y="4876920"/>
              <a:ext cx="190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6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2895480" y="1828800"/>
            <a:ext cx="6156720" cy="762120"/>
            <a:chOff x="2895480" y="1828800"/>
            <a:chExt cx="6156720" cy="762120"/>
          </a:xfrm>
        </p:grpSpPr>
        <p:sp>
          <p:nvSpPr>
            <p:cNvPr id="336" name=""/>
            <p:cNvSpPr/>
            <p:nvPr/>
          </p:nvSpPr>
          <p:spPr>
            <a:xfrm>
              <a:off x="2895480" y="1828800"/>
              <a:ext cx="4267440" cy="38088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1981080"/>
              <a:ext cx="504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772400" y="2286000"/>
              <a:ext cx="838080" cy="7632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8688600" y="2130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7924680" y="3048120"/>
            <a:ext cx="974880" cy="1295280"/>
            <a:chOff x="7924680" y="3048120"/>
            <a:chExt cx="974880" cy="1295280"/>
          </a:xfrm>
        </p:grpSpPr>
        <p:sp>
          <p:nvSpPr>
            <p:cNvPr id="341" name=""/>
            <p:cNvSpPr/>
            <p:nvPr/>
          </p:nvSpPr>
          <p:spPr>
            <a:xfrm>
              <a:off x="8458200" y="37339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924680" y="3048120"/>
              <a:ext cx="30492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001000" y="335268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8535960" y="3883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8610480" y="2514600"/>
            <a:ext cx="762120" cy="1447920"/>
            <a:chOff x="8610480" y="2514600"/>
            <a:chExt cx="762120" cy="1447920"/>
          </a:xfrm>
        </p:grpSpPr>
        <p:sp>
          <p:nvSpPr>
            <p:cNvPr id="346" name=""/>
            <p:cNvSpPr/>
            <p:nvPr/>
          </p:nvSpPr>
          <p:spPr>
            <a:xfrm>
              <a:off x="8915400" y="2514600"/>
              <a:ext cx="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610480" y="304812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8762760" y="3505320"/>
              <a:ext cx="7596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E0272-963F-4C3A-B198-13A23C614EA6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ember initial allocation is /3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elegation for two /3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8.3.2.0.1.0.0.2.ip6.arpa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1.8.3.2.0.1.0.0.2.ip6.arp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up reverse for SUB TL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459360" y="2362320"/>
            <a:ext cx="9141840" cy="3429000"/>
            <a:chOff x="459360" y="2362320"/>
            <a:chExt cx="9141840" cy="3429000"/>
          </a:xfrm>
        </p:grpSpPr>
        <p:sp>
          <p:nvSpPr>
            <p:cNvPr id="352" name=""/>
            <p:cNvSpPr/>
            <p:nvPr/>
          </p:nvSpPr>
          <p:spPr>
            <a:xfrm>
              <a:off x="6933960" y="3124440"/>
              <a:ext cx="152640" cy="457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>
              <a:off x="7086600" y="3581640"/>
              <a:ext cx="1218960" cy="1752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467480" y="5334120"/>
              <a:ext cx="2133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an be 1 or 0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59360" y="2362320"/>
              <a:ext cx="7861680" cy="18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FP |                /35 allocations|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3 |                           /32 |  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--|----------------------------|--|----……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00100000000000010000001000111000000?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------------ 35 bits --------------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   </a:t>
              </a: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2   0   0   1:  0   2   3   8   0/35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A0FF2-4EC9-47F8-B4D2-D2F4A17AA536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data and the transport layer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principle the transport layer does not have influence on DNS data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can be published by servers running on IPv4 or IPv6, content should not diff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: IPv6 client might not be able to see IPv6 servers and vice ve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s are by far not solv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ception to above: IPv4 mapped addres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ing is depended on OS librari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978F1-BB3D-4A08-8165-073B88003AC1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of addresses to revers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ames to addresses is comm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bert.secret-wg.org  A 193.0.0.4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times one wants to know which name comes with a given address. If you can translate the address to a FQDN one can use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sign goal: Delegate maintenance of the reverse DNS to the owner of the address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0BEA7-96EE-4E8D-803B-0EEEE891A98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allocation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allocation is hierarchical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locks of addresses are allocated to LIRs/ISP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maller blocks are allocated to cli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ients will assign address blocks to end us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is based on destinations for given address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istorically on 8 bit boundaries (Class A,B,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assless Inter Domain Routing (CIDR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A2F5F-D404-452F-8E44-8D60C9E32BA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 flipV="1">
            <a:off x="5181480" y="4571640"/>
            <a:ext cx="1905120" cy="1522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57400" y="3733920"/>
            <a:ext cx="2286000" cy="685800"/>
          </a:xfrm>
          <a:custGeom>
            <a:avLst/>
            <a:gdLst/>
            <a:ahLst/>
            <a:rect l="l" t="t" r="r" b="b"/>
            <a:pathLst>
              <a:path w="1440" h="432">
                <a:moveTo>
                  <a:pt x="0" y="0"/>
                </a:moveTo>
                <a:cubicBezTo>
                  <a:pt x="408" y="36"/>
                  <a:pt x="816" y="72"/>
                  <a:pt x="1056" y="144"/>
                </a:cubicBezTo>
                <a:cubicBezTo>
                  <a:pt x="1296" y="216"/>
                  <a:pt x="1368" y="324"/>
                  <a:pt x="1440" y="432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4876920"/>
            <a:ext cx="2057400" cy="457200"/>
          </a:xfrm>
          <a:custGeom>
            <a:avLst/>
            <a:gdLst/>
            <a:ahLst/>
            <a:rect l="l" t="t" r="r" b="b"/>
            <a:pathLst>
              <a:path w="1296" h="288">
                <a:moveTo>
                  <a:pt x="0" y="288"/>
                </a:moveTo>
                <a:cubicBezTo>
                  <a:pt x="372" y="264"/>
                  <a:pt x="744" y="240"/>
                  <a:pt x="960" y="192"/>
                </a:cubicBezTo>
                <a:cubicBezTo>
                  <a:pt x="1176" y="144"/>
                  <a:pt x="1236" y="72"/>
                  <a:pt x="1296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4406760"/>
            <a:ext cx="2133720" cy="165240"/>
          </a:xfrm>
          <a:custGeom>
            <a:avLst/>
            <a:gdLst/>
            <a:ahLst/>
            <a:rect l="l" t="t" r="r" b="b"/>
            <a:pathLst>
              <a:path w="1344" h="104">
                <a:moveTo>
                  <a:pt x="0" y="56"/>
                </a:moveTo>
                <a:cubicBezTo>
                  <a:pt x="416" y="28"/>
                  <a:pt x="832" y="0"/>
                  <a:pt x="1056" y="8"/>
                </a:cubicBezTo>
                <a:cubicBezTo>
                  <a:pt x="1280" y="16"/>
                  <a:pt x="1312" y="60"/>
                  <a:pt x="1344" y="104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4952880"/>
            <a:ext cx="1981080" cy="1257480"/>
          </a:xfrm>
          <a:custGeom>
            <a:avLst/>
            <a:gdLst/>
            <a:ahLst/>
            <a:rect l="l" t="t" r="r" b="b"/>
            <a:pathLst>
              <a:path w="1248" h="792">
                <a:moveTo>
                  <a:pt x="0" y="720"/>
                </a:moveTo>
                <a:cubicBezTo>
                  <a:pt x="232" y="756"/>
                  <a:pt x="464" y="792"/>
                  <a:pt x="672" y="672"/>
                </a:cubicBezTo>
                <a:cubicBezTo>
                  <a:pt x="880" y="552"/>
                  <a:pt x="1064" y="276"/>
                  <a:pt x="1248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assless inter domain routing (CIDR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table size (router memory) is a limited resour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oal of CIDR: aggregate many small address block into one larger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56360" y="3452760"/>
            <a:ext cx="3203640" cy="2033640"/>
          </a:xfrm>
          <a:custGeom>
            <a:avLst/>
            <a:gdLst/>
            <a:ahLst/>
            <a:rect l="l" t="t" r="r" b="b"/>
            <a:pathLst>
              <a:path w="2018" h="1281">
                <a:moveTo>
                  <a:pt x="929" y="170"/>
                </a:moveTo>
                <a:cubicBezTo>
                  <a:pt x="950" y="201"/>
                  <a:pt x="944" y="202"/>
                  <a:pt x="997" y="211"/>
                </a:cubicBezTo>
                <a:cubicBezTo>
                  <a:pt x="1005" y="212"/>
                  <a:pt x="985" y="199"/>
                  <a:pt x="977" y="197"/>
                </a:cubicBezTo>
                <a:cubicBezTo>
                  <a:pt x="941" y="186"/>
                  <a:pt x="905" y="177"/>
                  <a:pt x="868" y="170"/>
                </a:cubicBezTo>
                <a:cubicBezTo>
                  <a:pt x="822" y="161"/>
                  <a:pt x="776" y="156"/>
                  <a:pt x="731" y="143"/>
                </a:cubicBezTo>
                <a:cubicBezTo>
                  <a:pt x="699" y="134"/>
                  <a:pt x="668" y="123"/>
                  <a:pt x="636" y="116"/>
                </a:cubicBezTo>
                <a:cubicBezTo>
                  <a:pt x="582" y="104"/>
                  <a:pt x="472" y="88"/>
                  <a:pt x="472" y="88"/>
                </a:cubicBezTo>
                <a:cubicBezTo>
                  <a:pt x="375" y="50"/>
                  <a:pt x="291" y="44"/>
                  <a:pt x="186" y="34"/>
                </a:cubicBezTo>
                <a:cubicBezTo>
                  <a:pt x="152" y="43"/>
                  <a:pt x="117" y="48"/>
                  <a:pt x="84" y="61"/>
                </a:cubicBezTo>
                <a:cubicBezTo>
                  <a:pt x="60" y="70"/>
                  <a:pt x="36" y="122"/>
                  <a:pt x="36" y="122"/>
                </a:cubicBezTo>
                <a:cubicBezTo>
                  <a:pt x="20" y="171"/>
                  <a:pt x="12" y="222"/>
                  <a:pt x="2" y="272"/>
                </a:cubicBezTo>
                <a:cubicBezTo>
                  <a:pt x="6" y="324"/>
                  <a:pt x="0" y="379"/>
                  <a:pt x="15" y="429"/>
                </a:cubicBezTo>
                <a:cubicBezTo>
                  <a:pt x="20" y="445"/>
                  <a:pt x="43" y="446"/>
                  <a:pt x="56" y="457"/>
                </a:cubicBezTo>
                <a:cubicBezTo>
                  <a:pt x="71" y="469"/>
                  <a:pt x="82" y="485"/>
                  <a:pt x="97" y="497"/>
                </a:cubicBezTo>
                <a:cubicBezTo>
                  <a:pt x="185" y="571"/>
                  <a:pt x="279" y="598"/>
                  <a:pt x="384" y="634"/>
                </a:cubicBezTo>
                <a:cubicBezTo>
                  <a:pt x="377" y="662"/>
                  <a:pt x="364" y="682"/>
                  <a:pt x="356" y="709"/>
                </a:cubicBezTo>
                <a:cubicBezTo>
                  <a:pt x="352" y="723"/>
                  <a:pt x="343" y="750"/>
                  <a:pt x="343" y="750"/>
                </a:cubicBezTo>
                <a:cubicBezTo>
                  <a:pt x="378" y="848"/>
                  <a:pt x="385" y="834"/>
                  <a:pt x="459" y="893"/>
                </a:cubicBezTo>
                <a:cubicBezTo>
                  <a:pt x="469" y="901"/>
                  <a:pt x="474" y="915"/>
                  <a:pt x="486" y="920"/>
                </a:cubicBezTo>
                <a:cubicBezTo>
                  <a:pt x="532" y="938"/>
                  <a:pt x="629" y="961"/>
                  <a:pt x="629" y="961"/>
                </a:cubicBezTo>
                <a:cubicBezTo>
                  <a:pt x="613" y="986"/>
                  <a:pt x="595" y="1043"/>
                  <a:pt x="595" y="1043"/>
                </a:cubicBezTo>
                <a:cubicBezTo>
                  <a:pt x="597" y="1068"/>
                  <a:pt x="594" y="1094"/>
                  <a:pt x="602" y="1118"/>
                </a:cubicBezTo>
                <a:cubicBezTo>
                  <a:pt x="609" y="1140"/>
                  <a:pt x="665" y="1164"/>
                  <a:pt x="677" y="1172"/>
                </a:cubicBezTo>
                <a:cubicBezTo>
                  <a:pt x="737" y="1210"/>
                  <a:pt x="794" y="1261"/>
                  <a:pt x="868" y="1268"/>
                </a:cubicBezTo>
                <a:cubicBezTo>
                  <a:pt x="945" y="1275"/>
                  <a:pt x="1023" y="1277"/>
                  <a:pt x="1100" y="1281"/>
                </a:cubicBezTo>
                <a:cubicBezTo>
                  <a:pt x="1195" y="1279"/>
                  <a:pt x="1291" y="1281"/>
                  <a:pt x="1386" y="1275"/>
                </a:cubicBezTo>
                <a:cubicBezTo>
                  <a:pt x="1467" y="1270"/>
                  <a:pt x="1539" y="1183"/>
                  <a:pt x="1591" y="1131"/>
                </a:cubicBezTo>
                <a:cubicBezTo>
                  <a:pt x="1629" y="1093"/>
                  <a:pt x="1684" y="1053"/>
                  <a:pt x="1713" y="1009"/>
                </a:cubicBezTo>
                <a:cubicBezTo>
                  <a:pt x="1761" y="937"/>
                  <a:pt x="1812" y="873"/>
                  <a:pt x="1863" y="804"/>
                </a:cubicBezTo>
                <a:cubicBezTo>
                  <a:pt x="1941" y="699"/>
                  <a:pt x="1884" y="745"/>
                  <a:pt x="1959" y="695"/>
                </a:cubicBezTo>
                <a:cubicBezTo>
                  <a:pt x="1963" y="681"/>
                  <a:pt x="1965" y="666"/>
                  <a:pt x="1972" y="654"/>
                </a:cubicBezTo>
                <a:cubicBezTo>
                  <a:pt x="2018" y="578"/>
                  <a:pt x="1989" y="670"/>
                  <a:pt x="2007" y="600"/>
                </a:cubicBezTo>
                <a:cubicBezTo>
                  <a:pt x="1995" y="518"/>
                  <a:pt x="1985" y="532"/>
                  <a:pt x="1904" y="477"/>
                </a:cubicBezTo>
                <a:cubicBezTo>
                  <a:pt x="1893" y="470"/>
                  <a:pt x="1887" y="458"/>
                  <a:pt x="1877" y="450"/>
                </a:cubicBezTo>
                <a:cubicBezTo>
                  <a:pt x="1873" y="447"/>
                  <a:pt x="1814" y="408"/>
                  <a:pt x="1795" y="395"/>
                </a:cubicBezTo>
                <a:cubicBezTo>
                  <a:pt x="1774" y="381"/>
                  <a:pt x="1743" y="383"/>
                  <a:pt x="1720" y="375"/>
                </a:cubicBezTo>
                <a:cubicBezTo>
                  <a:pt x="1684" y="339"/>
                  <a:pt x="1633" y="283"/>
                  <a:pt x="1584" y="266"/>
                </a:cubicBezTo>
                <a:cubicBezTo>
                  <a:pt x="1570" y="261"/>
                  <a:pt x="1557" y="257"/>
                  <a:pt x="1543" y="252"/>
                </a:cubicBezTo>
                <a:cubicBezTo>
                  <a:pt x="1536" y="250"/>
                  <a:pt x="1522" y="245"/>
                  <a:pt x="1522" y="245"/>
                </a:cubicBezTo>
                <a:cubicBezTo>
                  <a:pt x="1559" y="236"/>
                  <a:pt x="1632" y="211"/>
                  <a:pt x="1632" y="211"/>
                </a:cubicBezTo>
                <a:cubicBezTo>
                  <a:pt x="1689" y="153"/>
                  <a:pt x="1672" y="184"/>
                  <a:pt x="1693" y="122"/>
                </a:cubicBezTo>
                <a:cubicBezTo>
                  <a:pt x="1691" y="95"/>
                  <a:pt x="1693" y="67"/>
                  <a:pt x="1686" y="41"/>
                </a:cubicBezTo>
                <a:cubicBezTo>
                  <a:pt x="1684" y="33"/>
                  <a:pt x="1674" y="28"/>
                  <a:pt x="1666" y="27"/>
                </a:cubicBezTo>
                <a:cubicBezTo>
                  <a:pt x="1612" y="17"/>
                  <a:pt x="1392" y="3"/>
                  <a:pt x="1352" y="0"/>
                </a:cubicBezTo>
                <a:cubicBezTo>
                  <a:pt x="1279" y="2"/>
                  <a:pt x="1207" y="3"/>
                  <a:pt x="1134" y="7"/>
                </a:cubicBezTo>
                <a:cubicBezTo>
                  <a:pt x="1124" y="8"/>
                  <a:pt x="1114" y="8"/>
                  <a:pt x="1106" y="13"/>
                </a:cubicBezTo>
                <a:cubicBezTo>
                  <a:pt x="1075" y="33"/>
                  <a:pt x="1077" y="105"/>
                  <a:pt x="1066" y="136"/>
                </a:cubicBezTo>
                <a:cubicBezTo>
                  <a:pt x="1056" y="164"/>
                  <a:pt x="1050" y="156"/>
                  <a:pt x="1025" y="163"/>
                </a:cubicBezTo>
                <a:cubicBezTo>
                  <a:pt x="1018" y="165"/>
                  <a:pt x="1004" y="170"/>
                  <a:pt x="1004" y="170"/>
                </a:cubicBezTo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62560" y="403848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4323240"/>
            <a:ext cx="1774800" cy="649800"/>
          </a:xfrm>
          <a:prstGeom prst="ellipse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SP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2400" y="34088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7840" y="41709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7840" y="50090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2400" y="57711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5791320"/>
            <a:ext cx="21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3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50292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2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95280" y="419112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1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34290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41148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486400" y="4723920"/>
            <a:ext cx="380880" cy="12193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24280" y="5943600"/>
            <a:ext cx="230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ggregated rout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2B93D-7404-4493-B5A4-EE817BADEEA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133720" y="4419720"/>
            <a:ext cx="4190760" cy="304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block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block notation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address&gt;/&lt;number of significant bit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nstanc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0.0.0/8 or short 193/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165.64/19=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0xc1a54000/19 =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100 0001 1001 0101 0010 0000 0000 0000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886200" y="4724280"/>
            <a:ext cx="914400" cy="6098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55960" y="5222880"/>
            <a:ext cx="10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19 bit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DE09C-3C58-443D-8A02-2076D90A913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4724280" y="4038480"/>
            <a:ext cx="3276720" cy="978120"/>
            <a:chOff x="4724280" y="4038480"/>
            <a:chExt cx="3276720" cy="978120"/>
          </a:xfrm>
        </p:grpSpPr>
        <p:sp>
          <p:nvSpPr>
            <p:cNvPr id="124" name=""/>
            <p:cNvSpPr/>
            <p:nvPr/>
          </p:nvSpPr>
          <p:spPr>
            <a:xfrm>
              <a:off x="472428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029200" y="4495680"/>
              <a:ext cx="2971800" cy="520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4 address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343400" y="4038480"/>
            <a:ext cx="3124080" cy="1752840"/>
            <a:chOff x="4343400" y="4038480"/>
            <a:chExt cx="3124080" cy="1752840"/>
          </a:xfrm>
        </p:grpSpPr>
        <p:sp>
          <p:nvSpPr>
            <p:cNvPr id="128" name=""/>
            <p:cNvSpPr/>
            <p:nvPr/>
          </p:nvSpPr>
          <p:spPr>
            <a:xfrm>
              <a:off x="4343400" y="4038480"/>
              <a:ext cx="457200" cy="38124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95680" y="4495680"/>
              <a:ext cx="2971800" cy="12956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429000" y="3657240"/>
            <a:ext cx="3124080" cy="762480"/>
            <a:chOff x="3429000" y="3657240"/>
            <a:chExt cx="3124080" cy="762480"/>
          </a:xfrm>
        </p:grpSpPr>
        <p:sp>
          <p:nvSpPr>
            <p:cNvPr id="131" name=""/>
            <p:cNvSpPr/>
            <p:nvPr/>
          </p:nvSpPr>
          <p:spPr>
            <a:xfrm>
              <a:off x="342900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581280" y="3656880"/>
              <a:ext cx="2971800" cy="304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886200" y="3352680"/>
            <a:ext cx="3200400" cy="1067040"/>
            <a:chOff x="3886200" y="3352680"/>
            <a:chExt cx="3200400" cy="1067040"/>
          </a:xfrm>
        </p:grpSpPr>
        <p:sp>
          <p:nvSpPr>
            <p:cNvPr id="134" name=""/>
            <p:cNvSpPr/>
            <p:nvPr/>
          </p:nvSpPr>
          <p:spPr>
            <a:xfrm>
              <a:off x="3886200" y="4038480"/>
              <a:ext cx="457200" cy="381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4114800" y="3352680"/>
              <a:ext cx="2971800" cy="6098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IP address is a 4 byte number normally represented by the decimal representation of the 4 byte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0xC1000004  </a:t>
            </a:r>
            <a:r>
              <a:rPr b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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 193.0.0.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th allocation on 8 bit boundaries this leads to a simple delegation sche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1E949-3332-4280-9C74-DC9507C29BE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the IPv4 address into the DN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 192.26.1.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/8 is allocated to a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/16 is allocated by RIR to LIR/ISP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/24 is assigned by ISP to a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n the DN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ot delegates 192 domain to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IR delegates “26” sub-zone to IS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P delegates  “1”  sub-zone to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hat makes this possible: 1.26.19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7DC22-331C-4457-9811-E957E7410D0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15:25:20Z</dcterms:created>
  <dc:creator>Olaf M. Kolkman</dc:creator>
  <dc:description/>
  <dc:language>en-US</dc:language>
  <cp:lastModifiedBy>Marmaduke Wildebeeste</cp:lastModifiedBy>
  <cp:lastPrinted>2003-02-21T01:39:00Z</cp:lastPrinted>
  <dcterms:modified xsi:type="dcterms:W3CDTF">2003-06-01T20:53:51Z</dcterms:modified>
  <cp:revision>47</cp:revision>
  <dc:subject/>
  <dc:title>PowerPoint Presentation  -  Reverse DNS</dc:title>
</cp:coreProperties>
</file>