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DBE5D-A26F-4052-B852-2FAE124A39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BABEC-F57E-40EF-A7FD-C8252E3B04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see ‘DNS and BIND’ Chapt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F2339-5574-4D5F-A308-E9861227B87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3634F-CDB2-4A3C-92F7-1C634A58F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3826A-4073-4AF4-B569-F87566CA5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A1B7F-1B86-41CA-B608-F9E5EDFDA7A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D09BD-47F3-4D4E-A5C0-CA78DC501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8D0DD-1743-4C47-B486-5D3587E48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C3140-BFDA-49B6-A58B-ECB078660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CD292-0064-4E12-826F-582535914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D5982-098A-4BC8-875E-E0E9AF9A4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E717A-1662-4F9B-9BC9-855A74E98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02FE6-544A-41E8-8AE1-6C68656D3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25DBD-513B-44F4-BA88-20CB9A13A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7267FA42-55D2-4F33-9D5B-97298EC153FC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029200" y="4952880"/>
            <a:ext cx="451944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troduction to the DNS system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Dynamic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can be updated dynamical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/delete/modify of any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dification of the master database triggers replic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master can be dynamically updat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reates a single point of failu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8A281-142E-4F01-BAD0-1CB6FAB8980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Concep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xt slides are about concep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fter this set of slides you should underst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w  the DNS is bui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y it is built the way it 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terminology used throughout the cou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AD1A7-A69E-45C3-9E38-F674CD59F788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1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amespace needs to be made hierarchical to be able to sca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idea is to name objects based on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cation (within country, set  of organizations, set of companies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it within that location (company within set of company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bject within unit (name of person in company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1913D-2B3E-4662-86EC-771B614F0D7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2</a:t>
            </a:r>
            <a:br>
              <a:rPr sz="4800"/>
            </a:b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How names appear in the DN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ully Qualified Domain Name (FQD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WWW.RIPE.NE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bel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NS provides a mapping from FQDN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used as a key when fetching data in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00800" y="2817720"/>
            <a:ext cx="3124080" cy="45900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Note the trailing do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781680" y="2514600"/>
            <a:ext cx="53352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8C5BF-E67E-452C-988A-3181CFFB33A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NS maps names into data using Resource Record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detail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3200400"/>
            <a:ext cx="7848720" cy="1371600"/>
          </a:xfrm>
          <a:prstGeom prst="ellipse">
            <a:avLst/>
          </a:prstGeom>
          <a:solidFill>
            <a:srgbClr val="99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3581280"/>
            <a:ext cx="3733920" cy="5335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9720" y="3581280"/>
            <a:ext cx="700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…    A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6" name=""/>
          <p:cNvSpPr/>
          <p:nvPr/>
        </p:nvSpPr>
        <p:spPr>
          <a:xfrm>
            <a:off x="3508920" y="4849920"/>
            <a:ext cx="28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ddress Resourc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952880" y="4190760"/>
            <a:ext cx="914400" cy="6858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12920" y="2944800"/>
            <a:ext cx="27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Resource Recor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F7030-33EB-45D0-86BD-143908CEF6C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Tree" descr=""/>
          <p:cNvPicPr/>
          <p:nvPr/>
        </p:nvPicPr>
        <p:blipFill>
          <a:blip r:embed="rId1"/>
          <a:stretch/>
        </p:blipFill>
        <p:spPr>
          <a:xfrm>
            <a:off x="0" y="1676520"/>
            <a:ext cx="4191120" cy="44352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3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0" y="1600200"/>
            <a:ext cx="50832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names can be mapped to a tre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w branches at the ‘dot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restriction to the amount of branche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800" y="2239920"/>
            <a:ext cx="4858920" cy="3706200"/>
            <a:chOff x="1800" y="2239920"/>
            <a:chExt cx="4858920" cy="3706200"/>
          </a:xfrm>
        </p:grpSpPr>
        <p:sp>
          <p:nvSpPr>
            <p:cNvPr id="133" name=""/>
            <p:cNvSpPr/>
            <p:nvPr/>
          </p:nvSpPr>
          <p:spPr>
            <a:xfrm>
              <a:off x="11322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48004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54200" y="39178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00" y="29862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16440" y="28926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8864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25840" y="39178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64600" y="39178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82520" y="5486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25640" y="30798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13220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7984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25280" y="44766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01680" y="4384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963880" y="45705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94080" y="335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3640" y="3544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17480" y="2706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483840" y="2674440"/>
              <a:ext cx="2962440" cy="2982600"/>
              <a:chOff x="483840" y="2674440"/>
              <a:chExt cx="2962440" cy="2982600"/>
            </a:xfrm>
          </p:grpSpPr>
          <p:sp>
            <p:nvSpPr>
              <p:cNvPr id="152" name=""/>
              <p:cNvSpPr/>
              <p:nvPr/>
            </p:nvSpPr>
            <p:spPr>
              <a:xfrm flipH="1" flipV="1">
                <a:off x="3338280" y="332712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 flipV="1">
                <a:off x="1507680" y="5377680"/>
                <a:ext cx="48456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2099880" y="547092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V="1">
                <a:off x="2207520" y="5377680"/>
                <a:ext cx="32292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 flipV="1">
                <a:off x="1184040" y="481860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 flipV="1">
                <a:off x="968400" y="44456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 flipV="1">
                <a:off x="752760" y="388620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flipV="1">
                <a:off x="483840" y="342036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V="1">
                <a:off x="753120" y="3513240"/>
                <a:ext cx="269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1346040" y="3047400"/>
                <a:ext cx="26892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flipV="1">
                <a:off x="1507320" y="26744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1776600" y="2674440"/>
                <a:ext cx="161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2153880" y="481824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 flipV="1">
                <a:off x="1991880" y="43520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2800080" y="4911480"/>
                <a:ext cx="215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3123360" y="444600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3338640" y="369972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699480" y="3140280"/>
                <a:ext cx="0" cy="46620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540000" y="25192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76720" y="4724280"/>
              <a:ext cx="53316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3352680" y="4495680"/>
              <a:ext cx="30492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>
              <a:off x="2895480" y="4038480"/>
              <a:ext cx="152640" cy="5335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94040" y="45370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16400" y="35053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82720" y="47242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5720" y="42670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3227D-9952-4BE2-B236-93251420B91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omai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s are “name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.com is in the com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ripe.net is in the ripe.net domain and in the net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66480" y="3745080"/>
            <a:ext cx="6243840" cy="2765160"/>
            <a:chOff x="366480" y="3745080"/>
            <a:chExt cx="6243840" cy="2765160"/>
          </a:xfrm>
        </p:grpSpPr>
        <p:sp>
          <p:nvSpPr>
            <p:cNvPr id="181" name=""/>
            <p:cNvSpPr/>
            <p:nvPr/>
          </p:nvSpPr>
          <p:spPr>
            <a:xfrm>
              <a:off x="3701880" y="3745080"/>
              <a:ext cx="2908440" cy="2765160"/>
            </a:xfrm>
            <a:custGeom>
              <a:avLst/>
              <a:gdLst/>
              <a:ahLst/>
              <a:rect l="l" t="t" r="r" b="b"/>
              <a:pathLst>
                <a:path w="1832" h="1742">
                  <a:moveTo>
                    <a:pt x="1268" y="50"/>
                  </a:moveTo>
                  <a:cubicBezTo>
                    <a:pt x="1242" y="41"/>
                    <a:pt x="1220" y="22"/>
                    <a:pt x="1193" y="16"/>
                  </a:cubicBezTo>
                  <a:cubicBezTo>
                    <a:pt x="1163" y="9"/>
                    <a:pt x="1132" y="6"/>
                    <a:pt x="1102" y="0"/>
                  </a:cubicBezTo>
                  <a:cubicBezTo>
                    <a:pt x="1038" y="3"/>
                    <a:pt x="974" y="3"/>
                    <a:pt x="910" y="8"/>
                  </a:cubicBezTo>
                  <a:cubicBezTo>
                    <a:pt x="879" y="10"/>
                    <a:pt x="849" y="34"/>
                    <a:pt x="818" y="41"/>
                  </a:cubicBezTo>
                  <a:cubicBezTo>
                    <a:pt x="740" y="81"/>
                    <a:pt x="737" y="134"/>
                    <a:pt x="677" y="175"/>
                  </a:cubicBezTo>
                  <a:cubicBezTo>
                    <a:pt x="654" y="208"/>
                    <a:pt x="641" y="240"/>
                    <a:pt x="618" y="275"/>
                  </a:cubicBezTo>
                  <a:cubicBezTo>
                    <a:pt x="613" y="283"/>
                    <a:pt x="607" y="292"/>
                    <a:pt x="602" y="300"/>
                  </a:cubicBezTo>
                  <a:cubicBezTo>
                    <a:pt x="596" y="308"/>
                    <a:pt x="585" y="325"/>
                    <a:pt x="585" y="325"/>
                  </a:cubicBezTo>
                  <a:cubicBezTo>
                    <a:pt x="572" y="366"/>
                    <a:pt x="553" y="394"/>
                    <a:pt x="518" y="416"/>
                  </a:cubicBezTo>
                  <a:cubicBezTo>
                    <a:pt x="502" y="466"/>
                    <a:pt x="421" y="553"/>
                    <a:pt x="377" y="583"/>
                  </a:cubicBezTo>
                  <a:cubicBezTo>
                    <a:pt x="364" y="620"/>
                    <a:pt x="302" y="675"/>
                    <a:pt x="302" y="675"/>
                  </a:cubicBezTo>
                  <a:cubicBezTo>
                    <a:pt x="278" y="741"/>
                    <a:pt x="226" y="796"/>
                    <a:pt x="177" y="841"/>
                  </a:cubicBezTo>
                  <a:cubicBezTo>
                    <a:pt x="151" y="865"/>
                    <a:pt x="102" y="916"/>
                    <a:pt x="102" y="916"/>
                  </a:cubicBezTo>
                  <a:cubicBezTo>
                    <a:pt x="87" y="958"/>
                    <a:pt x="64" y="983"/>
                    <a:pt x="27" y="1008"/>
                  </a:cubicBezTo>
                  <a:cubicBezTo>
                    <a:pt x="21" y="1026"/>
                    <a:pt x="3" y="1039"/>
                    <a:pt x="2" y="1058"/>
                  </a:cubicBezTo>
                  <a:cubicBezTo>
                    <a:pt x="1" y="1079"/>
                    <a:pt x="0" y="1193"/>
                    <a:pt x="27" y="1233"/>
                  </a:cubicBezTo>
                  <a:cubicBezTo>
                    <a:pt x="55" y="1274"/>
                    <a:pt x="46" y="1244"/>
                    <a:pt x="77" y="1275"/>
                  </a:cubicBezTo>
                  <a:cubicBezTo>
                    <a:pt x="87" y="1285"/>
                    <a:pt x="92" y="1298"/>
                    <a:pt x="102" y="1308"/>
                  </a:cubicBezTo>
                  <a:cubicBezTo>
                    <a:pt x="151" y="1357"/>
                    <a:pt x="259" y="1425"/>
                    <a:pt x="327" y="1441"/>
                  </a:cubicBezTo>
                  <a:cubicBezTo>
                    <a:pt x="388" y="1483"/>
                    <a:pt x="469" y="1491"/>
                    <a:pt x="535" y="1525"/>
                  </a:cubicBezTo>
                  <a:cubicBezTo>
                    <a:pt x="572" y="1544"/>
                    <a:pt x="608" y="1569"/>
                    <a:pt x="643" y="1592"/>
                  </a:cubicBezTo>
                  <a:cubicBezTo>
                    <a:pt x="648" y="1596"/>
                    <a:pt x="703" y="1610"/>
                    <a:pt x="718" y="1617"/>
                  </a:cubicBezTo>
                  <a:cubicBezTo>
                    <a:pt x="766" y="1641"/>
                    <a:pt x="815" y="1654"/>
                    <a:pt x="868" y="1667"/>
                  </a:cubicBezTo>
                  <a:cubicBezTo>
                    <a:pt x="972" y="1693"/>
                    <a:pt x="932" y="1683"/>
                    <a:pt x="1077" y="1700"/>
                  </a:cubicBezTo>
                  <a:cubicBezTo>
                    <a:pt x="1099" y="1703"/>
                    <a:pt x="1143" y="1708"/>
                    <a:pt x="1143" y="1708"/>
                  </a:cubicBezTo>
                  <a:cubicBezTo>
                    <a:pt x="1186" y="1723"/>
                    <a:pt x="1232" y="1732"/>
                    <a:pt x="1277" y="1742"/>
                  </a:cubicBezTo>
                  <a:cubicBezTo>
                    <a:pt x="1319" y="1739"/>
                    <a:pt x="1361" y="1738"/>
                    <a:pt x="1402" y="1733"/>
                  </a:cubicBezTo>
                  <a:cubicBezTo>
                    <a:pt x="1445" y="1727"/>
                    <a:pt x="1477" y="1711"/>
                    <a:pt x="1518" y="1700"/>
                  </a:cubicBezTo>
                  <a:cubicBezTo>
                    <a:pt x="1591" y="1680"/>
                    <a:pt x="1663" y="1659"/>
                    <a:pt x="1735" y="1633"/>
                  </a:cubicBezTo>
                  <a:cubicBezTo>
                    <a:pt x="1759" y="1609"/>
                    <a:pt x="1778" y="1582"/>
                    <a:pt x="1802" y="1558"/>
                  </a:cubicBezTo>
                  <a:cubicBezTo>
                    <a:pt x="1832" y="1463"/>
                    <a:pt x="1821" y="1518"/>
                    <a:pt x="1810" y="1358"/>
                  </a:cubicBezTo>
                  <a:cubicBezTo>
                    <a:pt x="1805" y="1288"/>
                    <a:pt x="1795" y="1232"/>
                    <a:pt x="1735" y="1191"/>
                  </a:cubicBezTo>
                  <a:cubicBezTo>
                    <a:pt x="1714" y="1161"/>
                    <a:pt x="1647" y="1120"/>
                    <a:pt x="1610" y="1108"/>
                  </a:cubicBezTo>
                  <a:cubicBezTo>
                    <a:pt x="1565" y="1074"/>
                    <a:pt x="1519" y="1041"/>
                    <a:pt x="1468" y="1016"/>
                  </a:cubicBezTo>
                  <a:cubicBezTo>
                    <a:pt x="1442" y="976"/>
                    <a:pt x="1410" y="979"/>
                    <a:pt x="1377" y="950"/>
                  </a:cubicBezTo>
                  <a:cubicBezTo>
                    <a:pt x="1308" y="889"/>
                    <a:pt x="1354" y="910"/>
                    <a:pt x="1302" y="891"/>
                  </a:cubicBezTo>
                  <a:cubicBezTo>
                    <a:pt x="1289" y="872"/>
                    <a:pt x="1280" y="855"/>
                    <a:pt x="1260" y="841"/>
                  </a:cubicBezTo>
                  <a:cubicBezTo>
                    <a:pt x="1217" y="810"/>
                    <a:pt x="1238" y="840"/>
                    <a:pt x="1202" y="808"/>
                  </a:cubicBezTo>
                  <a:cubicBezTo>
                    <a:pt x="1184" y="792"/>
                    <a:pt x="1152" y="758"/>
                    <a:pt x="1152" y="758"/>
                  </a:cubicBezTo>
                  <a:cubicBezTo>
                    <a:pt x="1133" y="670"/>
                    <a:pt x="1132" y="536"/>
                    <a:pt x="1202" y="466"/>
                  </a:cubicBezTo>
                  <a:cubicBezTo>
                    <a:pt x="1205" y="458"/>
                    <a:pt x="1206" y="449"/>
                    <a:pt x="1210" y="441"/>
                  </a:cubicBezTo>
                  <a:cubicBezTo>
                    <a:pt x="1215" y="432"/>
                    <a:pt x="1224" y="425"/>
                    <a:pt x="1227" y="416"/>
                  </a:cubicBezTo>
                  <a:cubicBezTo>
                    <a:pt x="1246" y="364"/>
                    <a:pt x="1246" y="321"/>
                    <a:pt x="1277" y="275"/>
                  </a:cubicBezTo>
                  <a:cubicBezTo>
                    <a:pt x="1296" y="217"/>
                    <a:pt x="1287" y="241"/>
                    <a:pt x="1302" y="200"/>
                  </a:cubicBezTo>
                  <a:cubicBezTo>
                    <a:pt x="1298" y="158"/>
                    <a:pt x="1314" y="105"/>
                    <a:pt x="1285" y="75"/>
                  </a:cubicBezTo>
                  <a:cubicBezTo>
                    <a:pt x="1271" y="61"/>
                    <a:pt x="1216" y="36"/>
                    <a:pt x="1235" y="41"/>
                  </a:cubicBezTo>
                  <a:cubicBezTo>
                    <a:pt x="1246" y="44"/>
                    <a:pt x="1257" y="47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2133720" y="5562360"/>
              <a:ext cx="1600200" cy="7596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66480" y="529740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6172200" y="3200400"/>
            <a:ext cx="3973320" cy="2808000"/>
            <a:chOff x="6172200" y="3200400"/>
            <a:chExt cx="3973320" cy="2808000"/>
          </a:xfrm>
        </p:grpSpPr>
        <p:sp>
          <p:nvSpPr>
            <p:cNvPr id="185" name=""/>
            <p:cNvSpPr/>
            <p:nvPr/>
          </p:nvSpPr>
          <p:spPr>
            <a:xfrm>
              <a:off x="6172200" y="3589200"/>
              <a:ext cx="2743200" cy="2419200"/>
            </a:xfrm>
            <a:custGeom>
              <a:avLst/>
              <a:gdLst/>
              <a:ahLst/>
              <a:rect l="l" t="t" r="r" b="b"/>
              <a:pathLst>
                <a:path w="1728" h="1524">
                  <a:moveTo>
                    <a:pt x="756" y="79"/>
                  </a:moveTo>
                  <a:cubicBezTo>
                    <a:pt x="667" y="51"/>
                    <a:pt x="583" y="15"/>
                    <a:pt x="490" y="4"/>
                  </a:cubicBezTo>
                  <a:cubicBezTo>
                    <a:pt x="259" y="14"/>
                    <a:pt x="360" y="0"/>
                    <a:pt x="231" y="46"/>
                  </a:cubicBezTo>
                  <a:cubicBezTo>
                    <a:pt x="216" y="92"/>
                    <a:pt x="209" y="140"/>
                    <a:pt x="198" y="187"/>
                  </a:cubicBezTo>
                  <a:cubicBezTo>
                    <a:pt x="204" y="280"/>
                    <a:pt x="201" y="294"/>
                    <a:pt x="223" y="362"/>
                  </a:cubicBezTo>
                  <a:cubicBezTo>
                    <a:pt x="220" y="384"/>
                    <a:pt x="226" y="410"/>
                    <a:pt x="215" y="429"/>
                  </a:cubicBezTo>
                  <a:cubicBezTo>
                    <a:pt x="205" y="446"/>
                    <a:pt x="165" y="462"/>
                    <a:pt x="165" y="462"/>
                  </a:cubicBezTo>
                  <a:cubicBezTo>
                    <a:pt x="159" y="470"/>
                    <a:pt x="156" y="480"/>
                    <a:pt x="148" y="487"/>
                  </a:cubicBezTo>
                  <a:cubicBezTo>
                    <a:pt x="133" y="500"/>
                    <a:pt x="98" y="521"/>
                    <a:pt x="98" y="521"/>
                  </a:cubicBezTo>
                  <a:cubicBezTo>
                    <a:pt x="86" y="539"/>
                    <a:pt x="66" y="552"/>
                    <a:pt x="56" y="571"/>
                  </a:cubicBezTo>
                  <a:cubicBezTo>
                    <a:pt x="50" y="582"/>
                    <a:pt x="36" y="637"/>
                    <a:pt x="31" y="654"/>
                  </a:cubicBezTo>
                  <a:cubicBezTo>
                    <a:pt x="35" y="693"/>
                    <a:pt x="46" y="732"/>
                    <a:pt x="48" y="771"/>
                  </a:cubicBezTo>
                  <a:cubicBezTo>
                    <a:pt x="54" y="874"/>
                    <a:pt x="0" y="1067"/>
                    <a:pt x="140" y="1112"/>
                  </a:cubicBezTo>
                  <a:cubicBezTo>
                    <a:pt x="168" y="1131"/>
                    <a:pt x="233" y="1162"/>
                    <a:pt x="265" y="1171"/>
                  </a:cubicBezTo>
                  <a:cubicBezTo>
                    <a:pt x="291" y="1179"/>
                    <a:pt x="324" y="1182"/>
                    <a:pt x="348" y="1196"/>
                  </a:cubicBezTo>
                  <a:cubicBezTo>
                    <a:pt x="395" y="1222"/>
                    <a:pt x="429" y="1259"/>
                    <a:pt x="473" y="1287"/>
                  </a:cubicBezTo>
                  <a:cubicBezTo>
                    <a:pt x="497" y="1322"/>
                    <a:pt x="486" y="1357"/>
                    <a:pt x="506" y="1387"/>
                  </a:cubicBezTo>
                  <a:cubicBezTo>
                    <a:pt x="526" y="1417"/>
                    <a:pt x="560" y="1429"/>
                    <a:pt x="590" y="1446"/>
                  </a:cubicBezTo>
                  <a:cubicBezTo>
                    <a:pt x="654" y="1482"/>
                    <a:pt x="735" y="1502"/>
                    <a:pt x="806" y="1521"/>
                  </a:cubicBezTo>
                  <a:cubicBezTo>
                    <a:pt x="837" y="1518"/>
                    <a:pt x="870" y="1524"/>
                    <a:pt x="898" y="1512"/>
                  </a:cubicBezTo>
                  <a:cubicBezTo>
                    <a:pt x="929" y="1499"/>
                    <a:pt x="945" y="1464"/>
                    <a:pt x="973" y="1446"/>
                  </a:cubicBezTo>
                  <a:cubicBezTo>
                    <a:pt x="993" y="1417"/>
                    <a:pt x="993" y="1399"/>
                    <a:pt x="1023" y="1379"/>
                  </a:cubicBezTo>
                  <a:cubicBezTo>
                    <a:pt x="1055" y="1318"/>
                    <a:pt x="1078" y="1265"/>
                    <a:pt x="1090" y="1196"/>
                  </a:cubicBezTo>
                  <a:cubicBezTo>
                    <a:pt x="1094" y="1120"/>
                    <a:pt x="1058" y="1022"/>
                    <a:pt x="1140" y="996"/>
                  </a:cubicBezTo>
                  <a:cubicBezTo>
                    <a:pt x="1148" y="990"/>
                    <a:pt x="1156" y="984"/>
                    <a:pt x="1165" y="979"/>
                  </a:cubicBezTo>
                  <a:cubicBezTo>
                    <a:pt x="1173" y="975"/>
                    <a:pt x="1182" y="975"/>
                    <a:pt x="1190" y="971"/>
                  </a:cubicBezTo>
                  <a:cubicBezTo>
                    <a:pt x="1229" y="949"/>
                    <a:pt x="1253" y="919"/>
                    <a:pt x="1290" y="896"/>
                  </a:cubicBezTo>
                  <a:cubicBezTo>
                    <a:pt x="1313" y="861"/>
                    <a:pt x="1332" y="860"/>
                    <a:pt x="1365" y="837"/>
                  </a:cubicBezTo>
                  <a:cubicBezTo>
                    <a:pt x="1394" y="817"/>
                    <a:pt x="1406" y="799"/>
                    <a:pt x="1440" y="787"/>
                  </a:cubicBezTo>
                  <a:cubicBezTo>
                    <a:pt x="1470" y="757"/>
                    <a:pt x="1506" y="730"/>
                    <a:pt x="1540" y="704"/>
                  </a:cubicBezTo>
                  <a:cubicBezTo>
                    <a:pt x="1556" y="692"/>
                    <a:pt x="1573" y="682"/>
                    <a:pt x="1590" y="671"/>
                  </a:cubicBezTo>
                  <a:cubicBezTo>
                    <a:pt x="1598" y="665"/>
                    <a:pt x="1615" y="654"/>
                    <a:pt x="1615" y="654"/>
                  </a:cubicBezTo>
                  <a:cubicBezTo>
                    <a:pt x="1638" y="618"/>
                    <a:pt x="1673" y="598"/>
                    <a:pt x="1698" y="562"/>
                  </a:cubicBezTo>
                  <a:cubicBezTo>
                    <a:pt x="1706" y="537"/>
                    <a:pt x="1715" y="512"/>
                    <a:pt x="1723" y="487"/>
                  </a:cubicBezTo>
                  <a:cubicBezTo>
                    <a:pt x="1712" y="399"/>
                    <a:pt x="1728" y="441"/>
                    <a:pt x="1681" y="371"/>
                  </a:cubicBezTo>
                  <a:cubicBezTo>
                    <a:pt x="1676" y="363"/>
                    <a:pt x="1674" y="349"/>
                    <a:pt x="1665" y="346"/>
                  </a:cubicBezTo>
                  <a:cubicBezTo>
                    <a:pt x="1603" y="324"/>
                    <a:pt x="1542" y="294"/>
                    <a:pt x="1481" y="271"/>
                  </a:cubicBezTo>
                  <a:cubicBezTo>
                    <a:pt x="1425" y="250"/>
                    <a:pt x="1347" y="251"/>
                    <a:pt x="1290" y="246"/>
                  </a:cubicBezTo>
                  <a:cubicBezTo>
                    <a:pt x="1233" y="226"/>
                    <a:pt x="1291" y="244"/>
                    <a:pt x="1181" y="229"/>
                  </a:cubicBezTo>
                  <a:cubicBezTo>
                    <a:pt x="1136" y="223"/>
                    <a:pt x="1091" y="202"/>
                    <a:pt x="1048" y="187"/>
                  </a:cubicBezTo>
                  <a:cubicBezTo>
                    <a:pt x="999" y="170"/>
                    <a:pt x="947" y="163"/>
                    <a:pt x="898" y="146"/>
                  </a:cubicBezTo>
                  <a:cubicBezTo>
                    <a:pt x="851" y="130"/>
                    <a:pt x="785" y="121"/>
                    <a:pt x="756" y="79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7497720" y="3541320"/>
              <a:ext cx="609840" cy="22860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169480" y="3200400"/>
              <a:ext cx="197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747360" y="4230720"/>
            <a:ext cx="5735880" cy="2081160"/>
            <a:chOff x="747360" y="4230720"/>
            <a:chExt cx="5735880" cy="2081160"/>
          </a:xfrm>
        </p:grpSpPr>
        <p:sp>
          <p:nvSpPr>
            <p:cNvPr id="189" name=""/>
            <p:cNvSpPr/>
            <p:nvPr/>
          </p:nvSpPr>
          <p:spPr>
            <a:xfrm>
              <a:off x="3809880" y="4432320"/>
              <a:ext cx="2673360" cy="1879560"/>
            </a:xfrm>
            <a:custGeom>
              <a:avLst/>
              <a:gdLst/>
              <a:ahLst/>
              <a:rect l="l" t="t" r="r" b="b"/>
              <a:pathLst>
                <a:path w="1684" h="1184">
                  <a:moveTo>
                    <a:pt x="900" y="25"/>
                  </a:moveTo>
                  <a:cubicBezTo>
                    <a:pt x="820" y="0"/>
                    <a:pt x="751" y="11"/>
                    <a:pt x="667" y="17"/>
                  </a:cubicBezTo>
                  <a:cubicBezTo>
                    <a:pt x="627" y="27"/>
                    <a:pt x="597" y="46"/>
                    <a:pt x="559" y="58"/>
                  </a:cubicBezTo>
                  <a:cubicBezTo>
                    <a:pt x="514" y="125"/>
                    <a:pt x="542" y="97"/>
                    <a:pt x="475" y="142"/>
                  </a:cubicBezTo>
                  <a:cubicBezTo>
                    <a:pt x="448" y="160"/>
                    <a:pt x="432" y="194"/>
                    <a:pt x="409" y="217"/>
                  </a:cubicBezTo>
                  <a:cubicBezTo>
                    <a:pt x="403" y="234"/>
                    <a:pt x="404" y="255"/>
                    <a:pt x="392" y="267"/>
                  </a:cubicBezTo>
                  <a:cubicBezTo>
                    <a:pt x="367" y="292"/>
                    <a:pt x="326" y="314"/>
                    <a:pt x="292" y="325"/>
                  </a:cubicBezTo>
                  <a:cubicBezTo>
                    <a:pt x="275" y="336"/>
                    <a:pt x="259" y="347"/>
                    <a:pt x="242" y="358"/>
                  </a:cubicBezTo>
                  <a:cubicBezTo>
                    <a:pt x="234" y="364"/>
                    <a:pt x="232" y="376"/>
                    <a:pt x="225" y="383"/>
                  </a:cubicBezTo>
                  <a:cubicBezTo>
                    <a:pt x="218" y="390"/>
                    <a:pt x="208" y="394"/>
                    <a:pt x="200" y="400"/>
                  </a:cubicBezTo>
                  <a:cubicBezTo>
                    <a:pt x="190" y="416"/>
                    <a:pt x="188" y="437"/>
                    <a:pt x="175" y="450"/>
                  </a:cubicBezTo>
                  <a:cubicBezTo>
                    <a:pt x="161" y="464"/>
                    <a:pt x="125" y="483"/>
                    <a:pt x="125" y="483"/>
                  </a:cubicBezTo>
                  <a:cubicBezTo>
                    <a:pt x="120" y="500"/>
                    <a:pt x="114" y="516"/>
                    <a:pt x="109" y="533"/>
                  </a:cubicBezTo>
                  <a:cubicBezTo>
                    <a:pt x="106" y="541"/>
                    <a:pt x="107" y="553"/>
                    <a:pt x="100" y="558"/>
                  </a:cubicBezTo>
                  <a:cubicBezTo>
                    <a:pt x="81" y="571"/>
                    <a:pt x="56" y="568"/>
                    <a:pt x="34" y="575"/>
                  </a:cubicBezTo>
                  <a:cubicBezTo>
                    <a:pt x="16" y="587"/>
                    <a:pt x="0" y="591"/>
                    <a:pt x="0" y="617"/>
                  </a:cubicBezTo>
                  <a:cubicBezTo>
                    <a:pt x="0" y="659"/>
                    <a:pt x="2" y="701"/>
                    <a:pt x="9" y="742"/>
                  </a:cubicBezTo>
                  <a:cubicBezTo>
                    <a:pt x="13" y="766"/>
                    <a:pt x="63" y="797"/>
                    <a:pt x="75" y="800"/>
                  </a:cubicBezTo>
                  <a:cubicBezTo>
                    <a:pt x="144" y="816"/>
                    <a:pt x="208" y="829"/>
                    <a:pt x="275" y="850"/>
                  </a:cubicBezTo>
                  <a:cubicBezTo>
                    <a:pt x="315" y="908"/>
                    <a:pt x="298" y="883"/>
                    <a:pt x="325" y="925"/>
                  </a:cubicBezTo>
                  <a:cubicBezTo>
                    <a:pt x="326" y="927"/>
                    <a:pt x="393" y="948"/>
                    <a:pt x="400" y="950"/>
                  </a:cubicBezTo>
                  <a:cubicBezTo>
                    <a:pt x="431" y="971"/>
                    <a:pt x="465" y="979"/>
                    <a:pt x="500" y="992"/>
                  </a:cubicBezTo>
                  <a:cubicBezTo>
                    <a:pt x="590" y="986"/>
                    <a:pt x="641" y="985"/>
                    <a:pt x="717" y="958"/>
                  </a:cubicBezTo>
                  <a:cubicBezTo>
                    <a:pt x="737" y="929"/>
                    <a:pt x="751" y="920"/>
                    <a:pt x="784" y="908"/>
                  </a:cubicBezTo>
                  <a:cubicBezTo>
                    <a:pt x="844" y="921"/>
                    <a:pt x="838" y="924"/>
                    <a:pt x="850" y="983"/>
                  </a:cubicBezTo>
                  <a:cubicBezTo>
                    <a:pt x="853" y="1028"/>
                    <a:pt x="849" y="1073"/>
                    <a:pt x="859" y="1117"/>
                  </a:cubicBezTo>
                  <a:cubicBezTo>
                    <a:pt x="861" y="1127"/>
                    <a:pt x="900" y="1141"/>
                    <a:pt x="909" y="1142"/>
                  </a:cubicBezTo>
                  <a:cubicBezTo>
                    <a:pt x="951" y="1146"/>
                    <a:pt x="992" y="1148"/>
                    <a:pt x="1034" y="1150"/>
                  </a:cubicBezTo>
                  <a:cubicBezTo>
                    <a:pt x="1103" y="1154"/>
                    <a:pt x="1173" y="1156"/>
                    <a:pt x="1242" y="1159"/>
                  </a:cubicBezTo>
                  <a:cubicBezTo>
                    <a:pt x="1314" y="1168"/>
                    <a:pt x="1389" y="1165"/>
                    <a:pt x="1459" y="1184"/>
                  </a:cubicBezTo>
                  <a:cubicBezTo>
                    <a:pt x="1501" y="1181"/>
                    <a:pt x="1542" y="1180"/>
                    <a:pt x="1584" y="1175"/>
                  </a:cubicBezTo>
                  <a:cubicBezTo>
                    <a:pt x="1612" y="1172"/>
                    <a:pt x="1659" y="1134"/>
                    <a:pt x="1659" y="1134"/>
                  </a:cubicBezTo>
                  <a:cubicBezTo>
                    <a:pt x="1667" y="1122"/>
                    <a:pt x="1684" y="1099"/>
                    <a:pt x="1684" y="1083"/>
                  </a:cubicBezTo>
                  <a:cubicBezTo>
                    <a:pt x="1684" y="1036"/>
                    <a:pt x="1682" y="989"/>
                    <a:pt x="1675" y="942"/>
                  </a:cubicBezTo>
                  <a:cubicBezTo>
                    <a:pt x="1668" y="895"/>
                    <a:pt x="1548" y="855"/>
                    <a:pt x="1509" y="833"/>
                  </a:cubicBezTo>
                  <a:cubicBezTo>
                    <a:pt x="1470" y="811"/>
                    <a:pt x="1445" y="783"/>
                    <a:pt x="1409" y="758"/>
                  </a:cubicBezTo>
                  <a:cubicBezTo>
                    <a:pt x="1388" y="726"/>
                    <a:pt x="1368" y="717"/>
                    <a:pt x="1334" y="700"/>
                  </a:cubicBezTo>
                  <a:cubicBezTo>
                    <a:pt x="1319" y="678"/>
                    <a:pt x="1315" y="645"/>
                    <a:pt x="1300" y="625"/>
                  </a:cubicBezTo>
                  <a:cubicBezTo>
                    <a:pt x="1276" y="594"/>
                    <a:pt x="1232" y="557"/>
                    <a:pt x="1200" y="533"/>
                  </a:cubicBezTo>
                  <a:cubicBezTo>
                    <a:pt x="1184" y="521"/>
                    <a:pt x="1164" y="514"/>
                    <a:pt x="1150" y="500"/>
                  </a:cubicBezTo>
                  <a:cubicBezTo>
                    <a:pt x="1125" y="475"/>
                    <a:pt x="1108" y="461"/>
                    <a:pt x="1075" y="450"/>
                  </a:cubicBezTo>
                  <a:cubicBezTo>
                    <a:pt x="1038" y="425"/>
                    <a:pt x="1015" y="400"/>
                    <a:pt x="1000" y="358"/>
                  </a:cubicBezTo>
                  <a:cubicBezTo>
                    <a:pt x="998" y="295"/>
                    <a:pt x="1056" y="101"/>
                    <a:pt x="950" y="67"/>
                  </a:cubicBezTo>
                  <a:cubicBezTo>
                    <a:pt x="915" y="43"/>
                    <a:pt x="937" y="54"/>
                    <a:pt x="900" y="42"/>
                  </a:cubicBezTo>
                  <a:cubicBezTo>
                    <a:pt x="892" y="39"/>
                    <a:pt x="875" y="42"/>
                    <a:pt x="875" y="33"/>
                  </a:cubicBezTo>
                  <a:cubicBezTo>
                    <a:pt x="875" y="24"/>
                    <a:pt x="892" y="28"/>
                    <a:pt x="900" y="25"/>
                  </a:cubicBezTo>
                  <a:close/>
                </a:path>
              </a:pathLst>
            </a:custGeom>
            <a:solidFill>
              <a:srgbClr val="99ff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2209320" y="4724280"/>
              <a:ext cx="2057400" cy="6098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47360" y="4230720"/>
              <a:ext cx="245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809880" y="3197880"/>
            <a:ext cx="5013360" cy="3053160"/>
            <a:chOff x="3809880" y="3197880"/>
            <a:chExt cx="5013360" cy="3053160"/>
          </a:xfrm>
        </p:grpSpPr>
        <p:grpSp>
          <p:nvGrpSpPr>
            <p:cNvPr id="193" name=""/>
            <p:cNvGrpSpPr/>
            <p:nvPr/>
          </p:nvGrpSpPr>
          <p:grpSpPr>
            <a:xfrm>
              <a:off x="3809880" y="3197880"/>
              <a:ext cx="4586040" cy="3053160"/>
              <a:chOff x="3809880" y="3197880"/>
              <a:chExt cx="4586040" cy="3053160"/>
            </a:xfrm>
          </p:grpSpPr>
          <p:sp>
            <p:nvSpPr>
              <p:cNvPr id="194" name=""/>
              <p:cNvSpPr/>
              <p:nvPr/>
            </p:nvSpPr>
            <p:spPr>
              <a:xfrm>
                <a:off x="502884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476760" y="35816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571640" y="44197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09880" y="52578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010280" y="54104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79096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562360" y="44960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933960" y="441972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V="1">
                <a:off x="5425920" y="5483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800240" y="518184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2120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10516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4435200" y="4797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>
                <a:off x="586872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V="1">
                <a:off x="6873840" y="39596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7240320" y="49503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487836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V="1">
                <a:off x="5868720" y="3197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4419000" y="3505320"/>
                <a:ext cx="2971800" cy="2438280"/>
                <a:chOff x="4419000" y="3505320"/>
                <a:chExt cx="2971800" cy="2438280"/>
              </a:xfrm>
            </p:grpSpPr>
            <p:sp>
              <p:nvSpPr>
                <p:cNvPr id="213" name=""/>
                <p:cNvSpPr/>
                <p:nvPr/>
              </p:nvSpPr>
              <p:spPr>
                <a:xfrm flipH="1">
                  <a:off x="7282800" y="52578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flipH="1">
                  <a:off x="5445720" y="350532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0080" y="35809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6148080" y="350532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>
                  <a:off x="5121360" y="4038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>
                  <a:off x="4905000" y="4343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H="1">
                  <a:off x="4689360" y="48006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flipH="1">
                  <a:off x="4419000" y="5181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4689360" y="510552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283720" y="54864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flipH="1">
                  <a:off x="5445360" y="57913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716080" y="579132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6094440" y="411444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931720" y="44197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742800" y="396252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066800" y="426708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282800" y="487692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4635360" y="518148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1" name=""/>
              <p:cNvSpPr/>
              <p:nvPr/>
            </p:nvSpPr>
            <p:spPr>
              <a:xfrm>
                <a:off x="42670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7086600" y="419112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6705720" y="426708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6858000" y="426708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174000" y="43434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50320" y="48006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545240" y="40384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31A79-00DE-4602-8861-856559E4EFE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s can create subdomains to group hos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ccording to geography, organizational affiliation or any other criter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 administrator of a domain can delegate responsibility for managing a subdomain to someone el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But this isn’t required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arent domain retains links to the delegated subdomain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The parent domain “remembers” who it delegated the subdomain to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2ACC3-3938-4486-AE8F-A357DCBBC6B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1128600" y="4040280"/>
            <a:ext cx="5950080" cy="2817720"/>
            <a:chOff x="1128600" y="4040280"/>
            <a:chExt cx="5950080" cy="2817720"/>
          </a:xfrm>
        </p:grpSpPr>
        <p:sp>
          <p:nvSpPr>
            <p:cNvPr id="241" name=""/>
            <p:cNvSpPr/>
            <p:nvPr/>
          </p:nvSpPr>
          <p:spPr>
            <a:xfrm>
              <a:off x="4259520" y="4040280"/>
              <a:ext cx="2819160" cy="2817720"/>
            </a:xfrm>
            <a:custGeom>
              <a:avLst/>
              <a:gdLst/>
              <a:ahLst/>
              <a:rect l="l" t="t" r="r" b="b"/>
              <a:pathLst>
                <a:path w="1776" h="1775">
                  <a:moveTo>
                    <a:pt x="1268" y="50"/>
                  </a:moveTo>
                  <a:cubicBezTo>
                    <a:pt x="1220" y="35"/>
                    <a:pt x="1176" y="30"/>
                    <a:pt x="1126" y="25"/>
                  </a:cubicBezTo>
                  <a:cubicBezTo>
                    <a:pt x="1101" y="17"/>
                    <a:pt x="1076" y="8"/>
                    <a:pt x="1051" y="0"/>
                  </a:cubicBezTo>
                  <a:cubicBezTo>
                    <a:pt x="979" y="6"/>
                    <a:pt x="958" y="7"/>
                    <a:pt x="901" y="25"/>
                  </a:cubicBezTo>
                  <a:cubicBezTo>
                    <a:pt x="841" y="64"/>
                    <a:pt x="870" y="53"/>
                    <a:pt x="818" y="67"/>
                  </a:cubicBezTo>
                  <a:cubicBezTo>
                    <a:pt x="774" y="95"/>
                    <a:pt x="722" y="94"/>
                    <a:pt x="676" y="117"/>
                  </a:cubicBezTo>
                  <a:cubicBezTo>
                    <a:pt x="646" y="132"/>
                    <a:pt x="601" y="183"/>
                    <a:pt x="601" y="183"/>
                  </a:cubicBezTo>
                  <a:cubicBezTo>
                    <a:pt x="588" y="225"/>
                    <a:pt x="550" y="247"/>
                    <a:pt x="526" y="283"/>
                  </a:cubicBezTo>
                  <a:cubicBezTo>
                    <a:pt x="519" y="306"/>
                    <a:pt x="512" y="342"/>
                    <a:pt x="493" y="358"/>
                  </a:cubicBezTo>
                  <a:cubicBezTo>
                    <a:pt x="486" y="364"/>
                    <a:pt x="476" y="363"/>
                    <a:pt x="468" y="367"/>
                  </a:cubicBezTo>
                  <a:cubicBezTo>
                    <a:pt x="428" y="389"/>
                    <a:pt x="403" y="411"/>
                    <a:pt x="359" y="425"/>
                  </a:cubicBezTo>
                  <a:cubicBezTo>
                    <a:pt x="353" y="458"/>
                    <a:pt x="350" y="491"/>
                    <a:pt x="326" y="517"/>
                  </a:cubicBezTo>
                  <a:cubicBezTo>
                    <a:pt x="302" y="543"/>
                    <a:pt x="251" y="592"/>
                    <a:pt x="251" y="592"/>
                  </a:cubicBezTo>
                  <a:cubicBezTo>
                    <a:pt x="248" y="603"/>
                    <a:pt x="232" y="661"/>
                    <a:pt x="226" y="667"/>
                  </a:cubicBezTo>
                  <a:cubicBezTo>
                    <a:pt x="220" y="673"/>
                    <a:pt x="209" y="672"/>
                    <a:pt x="201" y="675"/>
                  </a:cubicBezTo>
                  <a:cubicBezTo>
                    <a:pt x="186" y="685"/>
                    <a:pt x="166" y="689"/>
                    <a:pt x="151" y="700"/>
                  </a:cubicBezTo>
                  <a:cubicBezTo>
                    <a:pt x="138" y="709"/>
                    <a:pt x="130" y="723"/>
                    <a:pt x="118" y="733"/>
                  </a:cubicBezTo>
                  <a:cubicBezTo>
                    <a:pt x="19" y="813"/>
                    <a:pt x="105" y="730"/>
                    <a:pt x="43" y="792"/>
                  </a:cubicBezTo>
                  <a:cubicBezTo>
                    <a:pt x="2" y="907"/>
                    <a:pt x="25" y="1046"/>
                    <a:pt x="9" y="1167"/>
                  </a:cubicBezTo>
                  <a:cubicBezTo>
                    <a:pt x="13" y="1225"/>
                    <a:pt x="0" y="1289"/>
                    <a:pt x="26" y="1342"/>
                  </a:cubicBezTo>
                  <a:cubicBezTo>
                    <a:pt x="43" y="1377"/>
                    <a:pt x="126" y="1493"/>
                    <a:pt x="159" y="1517"/>
                  </a:cubicBezTo>
                  <a:cubicBezTo>
                    <a:pt x="183" y="1534"/>
                    <a:pt x="198" y="1535"/>
                    <a:pt x="226" y="1542"/>
                  </a:cubicBezTo>
                  <a:cubicBezTo>
                    <a:pt x="256" y="1563"/>
                    <a:pt x="387" y="1614"/>
                    <a:pt x="426" y="1617"/>
                  </a:cubicBezTo>
                  <a:cubicBezTo>
                    <a:pt x="479" y="1622"/>
                    <a:pt x="531" y="1622"/>
                    <a:pt x="584" y="1625"/>
                  </a:cubicBezTo>
                  <a:cubicBezTo>
                    <a:pt x="637" y="1639"/>
                    <a:pt x="608" y="1628"/>
                    <a:pt x="668" y="1667"/>
                  </a:cubicBezTo>
                  <a:cubicBezTo>
                    <a:pt x="688" y="1680"/>
                    <a:pt x="728" y="1686"/>
                    <a:pt x="751" y="1692"/>
                  </a:cubicBezTo>
                  <a:cubicBezTo>
                    <a:pt x="847" y="1758"/>
                    <a:pt x="974" y="1730"/>
                    <a:pt x="1084" y="1734"/>
                  </a:cubicBezTo>
                  <a:cubicBezTo>
                    <a:pt x="1168" y="1741"/>
                    <a:pt x="1244" y="1762"/>
                    <a:pt x="1326" y="1775"/>
                  </a:cubicBezTo>
                  <a:cubicBezTo>
                    <a:pt x="1426" y="1767"/>
                    <a:pt x="1492" y="1747"/>
                    <a:pt x="1584" y="1717"/>
                  </a:cubicBezTo>
                  <a:cubicBezTo>
                    <a:pt x="1617" y="1695"/>
                    <a:pt x="1655" y="1679"/>
                    <a:pt x="1693" y="1667"/>
                  </a:cubicBezTo>
                  <a:cubicBezTo>
                    <a:pt x="1717" y="1630"/>
                    <a:pt x="1714" y="1600"/>
                    <a:pt x="1751" y="1575"/>
                  </a:cubicBezTo>
                  <a:cubicBezTo>
                    <a:pt x="1760" y="1562"/>
                    <a:pt x="1776" y="1543"/>
                    <a:pt x="1776" y="1525"/>
                  </a:cubicBezTo>
                  <a:cubicBezTo>
                    <a:pt x="1776" y="1494"/>
                    <a:pt x="1772" y="1463"/>
                    <a:pt x="1768" y="1433"/>
                  </a:cubicBezTo>
                  <a:cubicBezTo>
                    <a:pt x="1763" y="1400"/>
                    <a:pt x="1738" y="1382"/>
                    <a:pt x="1718" y="1358"/>
                  </a:cubicBezTo>
                  <a:cubicBezTo>
                    <a:pt x="1675" y="1307"/>
                    <a:pt x="1624" y="1289"/>
                    <a:pt x="1568" y="1258"/>
                  </a:cubicBezTo>
                  <a:cubicBezTo>
                    <a:pt x="1487" y="1213"/>
                    <a:pt x="1547" y="1234"/>
                    <a:pt x="1493" y="1217"/>
                  </a:cubicBezTo>
                  <a:cubicBezTo>
                    <a:pt x="1423" y="1169"/>
                    <a:pt x="1374" y="1087"/>
                    <a:pt x="1293" y="1058"/>
                  </a:cubicBezTo>
                  <a:cubicBezTo>
                    <a:pt x="1254" y="1029"/>
                    <a:pt x="1223" y="996"/>
                    <a:pt x="1193" y="958"/>
                  </a:cubicBezTo>
                  <a:cubicBezTo>
                    <a:pt x="1181" y="942"/>
                    <a:pt x="1170" y="925"/>
                    <a:pt x="1159" y="908"/>
                  </a:cubicBezTo>
                  <a:cubicBezTo>
                    <a:pt x="1154" y="900"/>
                    <a:pt x="1143" y="883"/>
                    <a:pt x="1143" y="883"/>
                  </a:cubicBezTo>
                  <a:cubicBezTo>
                    <a:pt x="1134" y="843"/>
                    <a:pt x="1123" y="805"/>
                    <a:pt x="1109" y="767"/>
                  </a:cubicBezTo>
                  <a:cubicBezTo>
                    <a:pt x="1115" y="637"/>
                    <a:pt x="1068" y="517"/>
                    <a:pt x="1201" y="475"/>
                  </a:cubicBezTo>
                  <a:cubicBezTo>
                    <a:pt x="1209" y="469"/>
                    <a:pt x="1217" y="463"/>
                    <a:pt x="1226" y="458"/>
                  </a:cubicBezTo>
                  <a:cubicBezTo>
                    <a:pt x="1234" y="454"/>
                    <a:pt x="1244" y="455"/>
                    <a:pt x="1251" y="450"/>
                  </a:cubicBezTo>
                  <a:cubicBezTo>
                    <a:pt x="1294" y="422"/>
                    <a:pt x="1311" y="371"/>
                    <a:pt x="1326" y="325"/>
                  </a:cubicBezTo>
                  <a:cubicBezTo>
                    <a:pt x="1334" y="265"/>
                    <a:pt x="1341" y="189"/>
                    <a:pt x="1309" y="133"/>
                  </a:cubicBezTo>
                  <a:cubicBezTo>
                    <a:pt x="1265" y="55"/>
                    <a:pt x="1283" y="113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2819520" y="4394160"/>
              <a:ext cx="2362320" cy="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128600" y="420516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Zones and Delegatio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s are “administrative 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ors are responsible for portion of a domain’s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uthority is delegated from a parent and to a chil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763200" y="4595760"/>
            <a:ext cx="5164560" cy="1919160"/>
            <a:chOff x="763200" y="4595760"/>
            <a:chExt cx="5164560" cy="1919160"/>
          </a:xfrm>
        </p:grpSpPr>
        <p:sp>
          <p:nvSpPr>
            <p:cNvPr id="247" name=""/>
            <p:cNvSpPr/>
            <p:nvPr/>
          </p:nvSpPr>
          <p:spPr>
            <a:xfrm>
              <a:off x="4380120" y="4595760"/>
              <a:ext cx="1547640" cy="1919160"/>
            </a:xfrm>
            <a:custGeom>
              <a:avLst/>
              <a:gdLst/>
              <a:ahLst/>
              <a:rect l="l" t="t" r="r" b="b"/>
              <a:pathLst>
                <a:path w="975" h="1209">
                  <a:moveTo>
                    <a:pt x="908" y="92"/>
                  </a:moveTo>
                  <a:cubicBezTo>
                    <a:pt x="905" y="81"/>
                    <a:pt x="908" y="67"/>
                    <a:pt x="900" y="58"/>
                  </a:cubicBezTo>
                  <a:cubicBezTo>
                    <a:pt x="853" y="4"/>
                    <a:pt x="755" y="9"/>
                    <a:pt x="692" y="0"/>
                  </a:cubicBezTo>
                  <a:cubicBezTo>
                    <a:pt x="663" y="7"/>
                    <a:pt x="636" y="16"/>
                    <a:pt x="608" y="25"/>
                  </a:cubicBezTo>
                  <a:cubicBezTo>
                    <a:pt x="589" y="54"/>
                    <a:pt x="593" y="90"/>
                    <a:pt x="575" y="117"/>
                  </a:cubicBezTo>
                  <a:cubicBezTo>
                    <a:pt x="559" y="141"/>
                    <a:pt x="520" y="162"/>
                    <a:pt x="500" y="175"/>
                  </a:cubicBezTo>
                  <a:cubicBezTo>
                    <a:pt x="480" y="188"/>
                    <a:pt x="467" y="208"/>
                    <a:pt x="450" y="225"/>
                  </a:cubicBezTo>
                  <a:cubicBezTo>
                    <a:pt x="436" y="239"/>
                    <a:pt x="417" y="275"/>
                    <a:pt x="417" y="275"/>
                  </a:cubicBezTo>
                  <a:cubicBezTo>
                    <a:pt x="405" y="320"/>
                    <a:pt x="388" y="351"/>
                    <a:pt x="342" y="367"/>
                  </a:cubicBezTo>
                  <a:cubicBezTo>
                    <a:pt x="334" y="375"/>
                    <a:pt x="327" y="386"/>
                    <a:pt x="317" y="392"/>
                  </a:cubicBezTo>
                  <a:cubicBezTo>
                    <a:pt x="310" y="397"/>
                    <a:pt x="299" y="395"/>
                    <a:pt x="292" y="400"/>
                  </a:cubicBezTo>
                  <a:cubicBezTo>
                    <a:pt x="284" y="406"/>
                    <a:pt x="281" y="417"/>
                    <a:pt x="275" y="425"/>
                  </a:cubicBezTo>
                  <a:cubicBezTo>
                    <a:pt x="267" y="434"/>
                    <a:pt x="259" y="443"/>
                    <a:pt x="250" y="450"/>
                  </a:cubicBezTo>
                  <a:cubicBezTo>
                    <a:pt x="226" y="468"/>
                    <a:pt x="200" y="483"/>
                    <a:pt x="175" y="500"/>
                  </a:cubicBezTo>
                  <a:cubicBezTo>
                    <a:pt x="131" y="530"/>
                    <a:pt x="120" y="587"/>
                    <a:pt x="75" y="617"/>
                  </a:cubicBezTo>
                  <a:cubicBezTo>
                    <a:pt x="53" y="650"/>
                    <a:pt x="59" y="683"/>
                    <a:pt x="42" y="717"/>
                  </a:cubicBezTo>
                  <a:cubicBezTo>
                    <a:pt x="31" y="739"/>
                    <a:pt x="17" y="750"/>
                    <a:pt x="0" y="767"/>
                  </a:cubicBezTo>
                  <a:cubicBezTo>
                    <a:pt x="3" y="834"/>
                    <a:pt x="1" y="901"/>
                    <a:pt x="8" y="967"/>
                  </a:cubicBezTo>
                  <a:cubicBezTo>
                    <a:pt x="11" y="993"/>
                    <a:pt x="75" y="1008"/>
                    <a:pt x="75" y="1008"/>
                  </a:cubicBezTo>
                  <a:cubicBezTo>
                    <a:pt x="106" y="1029"/>
                    <a:pt x="139" y="1039"/>
                    <a:pt x="175" y="1050"/>
                  </a:cubicBezTo>
                  <a:cubicBezTo>
                    <a:pt x="211" y="1074"/>
                    <a:pt x="224" y="1111"/>
                    <a:pt x="267" y="1125"/>
                  </a:cubicBezTo>
                  <a:cubicBezTo>
                    <a:pt x="324" y="1164"/>
                    <a:pt x="298" y="1153"/>
                    <a:pt x="342" y="1167"/>
                  </a:cubicBezTo>
                  <a:cubicBezTo>
                    <a:pt x="394" y="1202"/>
                    <a:pt x="455" y="1203"/>
                    <a:pt x="517" y="1209"/>
                  </a:cubicBezTo>
                  <a:cubicBezTo>
                    <a:pt x="553" y="1206"/>
                    <a:pt x="590" y="1209"/>
                    <a:pt x="625" y="1200"/>
                  </a:cubicBezTo>
                  <a:cubicBezTo>
                    <a:pt x="644" y="1195"/>
                    <a:pt x="675" y="1167"/>
                    <a:pt x="675" y="1167"/>
                  </a:cubicBezTo>
                  <a:cubicBezTo>
                    <a:pt x="684" y="1140"/>
                    <a:pt x="717" y="1092"/>
                    <a:pt x="717" y="1092"/>
                  </a:cubicBezTo>
                  <a:cubicBezTo>
                    <a:pt x="740" y="1020"/>
                    <a:pt x="749" y="940"/>
                    <a:pt x="692" y="883"/>
                  </a:cubicBezTo>
                  <a:cubicBezTo>
                    <a:pt x="668" y="816"/>
                    <a:pt x="660" y="854"/>
                    <a:pt x="675" y="758"/>
                  </a:cubicBezTo>
                  <a:cubicBezTo>
                    <a:pt x="676" y="749"/>
                    <a:pt x="678" y="740"/>
                    <a:pt x="683" y="733"/>
                  </a:cubicBezTo>
                  <a:cubicBezTo>
                    <a:pt x="700" y="712"/>
                    <a:pt x="737" y="709"/>
                    <a:pt x="758" y="692"/>
                  </a:cubicBezTo>
                  <a:cubicBezTo>
                    <a:pt x="785" y="670"/>
                    <a:pt x="796" y="645"/>
                    <a:pt x="825" y="625"/>
                  </a:cubicBezTo>
                  <a:cubicBezTo>
                    <a:pt x="843" y="598"/>
                    <a:pt x="865" y="577"/>
                    <a:pt x="883" y="550"/>
                  </a:cubicBezTo>
                  <a:cubicBezTo>
                    <a:pt x="883" y="548"/>
                    <a:pt x="895" y="477"/>
                    <a:pt x="900" y="467"/>
                  </a:cubicBezTo>
                  <a:cubicBezTo>
                    <a:pt x="909" y="449"/>
                    <a:pt x="922" y="434"/>
                    <a:pt x="933" y="417"/>
                  </a:cubicBezTo>
                  <a:cubicBezTo>
                    <a:pt x="939" y="409"/>
                    <a:pt x="950" y="392"/>
                    <a:pt x="950" y="392"/>
                  </a:cubicBezTo>
                  <a:cubicBezTo>
                    <a:pt x="975" y="315"/>
                    <a:pt x="971" y="236"/>
                    <a:pt x="950" y="158"/>
                  </a:cubicBezTo>
                  <a:cubicBezTo>
                    <a:pt x="945" y="138"/>
                    <a:pt x="940" y="123"/>
                    <a:pt x="925" y="108"/>
                  </a:cubicBezTo>
                  <a:cubicBezTo>
                    <a:pt x="907" y="91"/>
                    <a:pt x="888" y="92"/>
                    <a:pt x="908" y="92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286000" y="5232240"/>
              <a:ext cx="2286000" cy="3808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63200" y="48495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3735720" y="3632040"/>
            <a:ext cx="2501640" cy="990720"/>
            <a:chOff x="3735720" y="3632040"/>
            <a:chExt cx="2501640" cy="990720"/>
          </a:xfrm>
        </p:grpSpPr>
        <p:sp>
          <p:nvSpPr>
            <p:cNvPr id="251" name=""/>
            <p:cNvSpPr/>
            <p:nvPr/>
          </p:nvSpPr>
          <p:spPr>
            <a:xfrm>
              <a:off x="4968720" y="3971880"/>
              <a:ext cx="609840" cy="30492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735720" y="3632040"/>
              <a:ext cx="141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97560" y="4060800"/>
              <a:ext cx="739800" cy="561960"/>
            </a:xfrm>
            <a:custGeom>
              <a:avLst/>
              <a:gdLst/>
              <a:ahLst/>
              <a:rect l="l" t="t" r="r" b="b"/>
              <a:pathLst>
                <a:path w="466" h="354">
                  <a:moveTo>
                    <a:pt x="425" y="84"/>
                  </a:moveTo>
                  <a:cubicBezTo>
                    <a:pt x="405" y="55"/>
                    <a:pt x="391" y="45"/>
                    <a:pt x="358" y="34"/>
                  </a:cubicBezTo>
                  <a:cubicBezTo>
                    <a:pt x="311" y="2"/>
                    <a:pt x="288" y="7"/>
                    <a:pt x="225" y="1"/>
                  </a:cubicBezTo>
                  <a:cubicBezTo>
                    <a:pt x="189" y="4"/>
                    <a:pt x="151" y="0"/>
                    <a:pt x="116" y="9"/>
                  </a:cubicBezTo>
                  <a:cubicBezTo>
                    <a:pt x="88" y="16"/>
                    <a:pt x="68" y="41"/>
                    <a:pt x="41" y="51"/>
                  </a:cubicBezTo>
                  <a:cubicBezTo>
                    <a:pt x="22" y="109"/>
                    <a:pt x="31" y="85"/>
                    <a:pt x="16" y="126"/>
                  </a:cubicBezTo>
                  <a:cubicBezTo>
                    <a:pt x="9" y="193"/>
                    <a:pt x="0" y="202"/>
                    <a:pt x="33" y="251"/>
                  </a:cubicBezTo>
                  <a:cubicBezTo>
                    <a:pt x="60" y="336"/>
                    <a:pt x="209" y="337"/>
                    <a:pt x="275" y="342"/>
                  </a:cubicBezTo>
                  <a:cubicBezTo>
                    <a:pt x="345" y="337"/>
                    <a:pt x="389" y="354"/>
                    <a:pt x="425" y="301"/>
                  </a:cubicBezTo>
                  <a:cubicBezTo>
                    <a:pt x="430" y="284"/>
                    <a:pt x="435" y="267"/>
                    <a:pt x="441" y="251"/>
                  </a:cubicBezTo>
                  <a:cubicBezTo>
                    <a:pt x="444" y="243"/>
                    <a:pt x="447" y="234"/>
                    <a:pt x="450" y="226"/>
                  </a:cubicBezTo>
                  <a:cubicBezTo>
                    <a:pt x="456" y="209"/>
                    <a:pt x="466" y="176"/>
                    <a:pt x="466" y="176"/>
                  </a:cubicBezTo>
                  <a:cubicBezTo>
                    <a:pt x="462" y="150"/>
                    <a:pt x="464" y="120"/>
                    <a:pt x="441" y="101"/>
                  </a:cubicBezTo>
                  <a:cubicBezTo>
                    <a:pt x="420" y="84"/>
                    <a:pt x="406" y="101"/>
                    <a:pt x="425" y="84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610560" y="5583240"/>
            <a:ext cx="6539400" cy="1182600"/>
            <a:chOff x="610560" y="5583240"/>
            <a:chExt cx="6539400" cy="1182600"/>
          </a:xfrm>
        </p:grpSpPr>
        <p:sp>
          <p:nvSpPr>
            <p:cNvPr id="255" name=""/>
            <p:cNvSpPr/>
            <p:nvPr/>
          </p:nvSpPr>
          <p:spPr>
            <a:xfrm>
              <a:off x="5380200" y="558324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743200" y="622296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0560" y="584028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4343400" y="3637800"/>
            <a:ext cx="4922280" cy="3014280"/>
            <a:chOff x="4343400" y="3637800"/>
            <a:chExt cx="4922280" cy="3014280"/>
          </a:xfrm>
        </p:grpSpPr>
        <p:grpSp>
          <p:nvGrpSpPr>
            <p:cNvPr id="259" name=""/>
            <p:cNvGrpSpPr/>
            <p:nvPr/>
          </p:nvGrpSpPr>
          <p:grpSpPr>
            <a:xfrm>
              <a:off x="4343400" y="3637800"/>
              <a:ext cx="4586040" cy="3014280"/>
              <a:chOff x="4343400" y="3637800"/>
              <a:chExt cx="4586040" cy="3014280"/>
            </a:xfrm>
          </p:grpSpPr>
          <p:sp>
            <p:nvSpPr>
              <p:cNvPr id="260" name=""/>
              <p:cNvSpPr/>
              <p:nvPr/>
            </p:nvSpPr>
            <p:spPr>
              <a:xfrm>
                <a:off x="556236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10280" y="40132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105160" y="485136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343400" y="56894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543800" y="58420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32448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095880" y="49276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467480" y="4851360"/>
                <a:ext cx="14619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5974200" y="5923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333760" y="561348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35472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63868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V="1">
                <a:off x="4983480" y="52380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641700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7422120" y="439992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7788600" y="53906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542664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6417000" y="3637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4952520" y="3936960"/>
                <a:ext cx="2971800" cy="2438280"/>
                <a:chOff x="4952520" y="3936960"/>
                <a:chExt cx="2971800" cy="2438280"/>
              </a:xfrm>
            </p:grpSpPr>
            <p:sp>
              <p:nvSpPr>
                <p:cNvPr id="279" name=""/>
                <p:cNvSpPr/>
                <p:nvPr/>
              </p:nvSpPr>
              <p:spPr>
                <a:xfrm flipH="1">
                  <a:off x="7816320" y="56894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H="1">
                  <a:off x="5979240" y="393696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573600" y="401256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6681600" y="393696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flipH="1">
                  <a:off x="5654880" y="4469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H="1">
                  <a:off x="5438520" y="477504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flipH="1">
                  <a:off x="5222880" y="52322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flipH="1">
                  <a:off x="4952520" y="5612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5222880" y="553716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817240" y="591804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 flipH="1">
                  <a:off x="5978880" y="62229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6249600" y="622296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6627960" y="454608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H="1">
                  <a:off x="6465240" y="48513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7276320" y="439416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7600320" y="469872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7816320" y="530856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168880" y="561312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7" name=""/>
              <p:cNvSpPr/>
              <p:nvPr/>
            </p:nvSpPr>
            <p:spPr>
              <a:xfrm>
                <a:off x="4800600" y="59180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>
              <a:off x="7620120" y="462276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7239240" y="469872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7391520" y="469872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707520" y="4797360"/>
              <a:ext cx="68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83120" y="5254560"/>
              <a:ext cx="851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79120" y="4492440"/>
              <a:ext cx="1186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35B05-94FD-4A9F-90D9-64ECA324A4D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servers answer ‘DNS’ question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ral types of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master (prim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slave (second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Caching) recurs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caching forwarder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xture of functiona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5DAC4-218A-4DB6-A142-A480B6DFD3B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urpose of nam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es are used to locate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easier to remember than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ould like to get to the address or other objects using a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NS provides a mapping from name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580BB-0D7E-43BC-B4C6-2E65B9698A8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am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ive authoritative answers for one or more zon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master server normally loads the data from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lave server normally replicates the data from the master via a zone transf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371600" y="4876920"/>
            <a:ext cx="457200" cy="7617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81080" y="5257800"/>
            <a:ext cx="38124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438280" y="4648320"/>
            <a:ext cx="609480" cy="1371600"/>
            <a:chOff x="2438280" y="4648320"/>
            <a:chExt cx="609480" cy="1371600"/>
          </a:xfrm>
        </p:grpSpPr>
        <p:sp>
          <p:nvSpPr>
            <p:cNvPr id="311" name=""/>
            <p:cNvSpPr/>
            <p:nvPr/>
          </p:nvSpPr>
          <p:spPr>
            <a:xfrm>
              <a:off x="2438280" y="46483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14240" y="50292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742840" y="51814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6934320" y="4114800"/>
            <a:ext cx="609480" cy="1371600"/>
            <a:chOff x="6934320" y="4114800"/>
            <a:chExt cx="609480" cy="1371600"/>
          </a:xfrm>
        </p:grpSpPr>
        <p:sp>
          <p:nvSpPr>
            <p:cNvPr id="315" name=""/>
            <p:cNvSpPr/>
            <p:nvPr/>
          </p:nvSpPr>
          <p:spPr>
            <a:xfrm>
              <a:off x="6934320" y="41148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10280" y="44956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38880" y="46479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3809880" y="4648320"/>
            <a:ext cx="1981440" cy="1295280"/>
          </a:xfrm>
          <a:custGeom>
            <a:avLst/>
            <a:gdLst/>
            <a:ahLst/>
            <a:rect l="l" t="t" r="r" b="b"/>
            <a:pathLst>
              <a:path w="1581" h="1169">
                <a:moveTo>
                  <a:pt x="623" y="152"/>
                </a:moveTo>
                <a:cubicBezTo>
                  <a:pt x="587" y="133"/>
                  <a:pt x="549" y="124"/>
                  <a:pt x="515" y="102"/>
                </a:cubicBezTo>
                <a:cubicBezTo>
                  <a:pt x="380" y="113"/>
                  <a:pt x="444" y="98"/>
                  <a:pt x="365" y="152"/>
                </a:cubicBezTo>
                <a:cubicBezTo>
                  <a:pt x="330" y="203"/>
                  <a:pt x="291" y="188"/>
                  <a:pt x="223" y="193"/>
                </a:cubicBezTo>
                <a:cubicBezTo>
                  <a:pt x="155" y="217"/>
                  <a:pt x="173" y="221"/>
                  <a:pt x="165" y="310"/>
                </a:cubicBezTo>
                <a:cubicBezTo>
                  <a:pt x="134" y="303"/>
                  <a:pt x="123" y="295"/>
                  <a:pt x="90" y="310"/>
                </a:cubicBezTo>
                <a:cubicBezTo>
                  <a:pt x="72" y="318"/>
                  <a:pt x="40" y="343"/>
                  <a:pt x="40" y="343"/>
                </a:cubicBezTo>
                <a:cubicBezTo>
                  <a:pt x="28" y="376"/>
                  <a:pt x="18" y="410"/>
                  <a:pt x="6" y="443"/>
                </a:cubicBezTo>
                <a:cubicBezTo>
                  <a:pt x="15" y="540"/>
                  <a:pt x="0" y="559"/>
                  <a:pt x="81" y="585"/>
                </a:cubicBezTo>
                <a:cubicBezTo>
                  <a:pt x="106" y="582"/>
                  <a:pt x="131" y="581"/>
                  <a:pt x="156" y="577"/>
                </a:cubicBezTo>
                <a:cubicBezTo>
                  <a:pt x="165" y="576"/>
                  <a:pt x="179" y="559"/>
                  <a:pt x="181" y="568"/>
                </a:cubicBezTo>
                <a:cubicBezTo>
                  <a:pt x="191" y="612"/>
                  <a:pt x="126" y="664"/>
                  <a:pt x="106" y="693"/>
                </a:cubicBezTo>
                <a:cubicBezTo>
                  <a:pt x="77" y="784"/>
                  <a:pt x="80" y="880"/>
                  <a:pt x="173" y="910"/>
                </a:cubicBezTo>
                <a:cubicBezTo>
                  <a:pt x="181" y="916"/>
                  <a:pt x="189" y="923"/>
                  <a:pt x="198" y="927"/>
                </a:cubicBezTo>
                <a:cubicBezTo>
                  <a:pt x="214" y="934"/>
                  <a:pt x="248" y="943"/>
                  <a:pt x="248" y="943"/>
                </a:cubicBezTo>
                <a:cubicBezTo>
                  <a:pt x="306" y="924"/>
                  <a:pt x="282" y="933"/>
                  <a:pt x="323" y="918"/>
                </a:cubicBezTo>
                <a:cubicBezTo>
                  <a:pt x="390" y="964"/>
                  <a:pt x="332" y="1021"/>
                  <a:pt x="365" y="1060"/>
                </a:cubicBezTo>
                <a:cubicBezTo>
                  <a:pt x="376" y="1074"/>
                  <a:pt x="398" y="1071"/>
                  <a:pt x="415" y="1077"/>
                </a:cubicBezTo>
                <a:cubicBezTo>
                  <a:pt x="462" y="1074"/>
                  <a:pt x="510" y="1057"/>
                  <a:pt x="556" y="1068"/>
                </a:cubicBezTo>
                <a:cubicBezTo>
                  <a:pt x="576" y="1073"/>
                  <a:pt x="579" y="1102"/>
                  <a:pt x="590" y="1119"/>
                </a:cubicBezTo>
                <a:cubicBezTo>
                  <a:pt x="609" y="1148"/>
                  <a:pt x="659" y="1158"/>
                  <a:pt x="690" y="1169"/>
                </a:cubicBezTo>
                <a:cubicBezTo>
                  <a:pt x="743" y="1163"/>
                  <a:pt x="783" y="1160"/>
                  <a:pt x="831" y="1144"/>
                </a:cubicBezTo>
                <a:cubicBezTo>
                  <a:pt x="848" y="1133"/>
                  <a:pt x="874" y="1129"/>
                  <a:pt x="881" y="1110"/>
                </a:cubicBezTo>
                <a:cubicBezTo>
                  <a:pt x="891" y="1083"/>
                  <a:pt x="906" y="1062"/>
                  <a:pt x="915" y="1035"/>
                </a:cubicBezTo>
                <a:cubicBezTo>
                  <a:pt x="918" y="1027"/>
                  <a:pt x="917" y="1016"/>
                  <a:pt x="923" y="1010"/>
                </a:cubicBezTo>
                <a:cubicBezTo>
                  <a:pt x="929" y="1004"/>
                  <a:pt x="940" y="1005"/>
                  <a:pt x="948" y="1002"/>
                </a:cubicBezTo>
                <a:cubicBezTo>
                  <a:pt x="1062" y="1012"/>
                  <a:pt x="1050" y="1019"/>
                  <a:pt x="1140" y="1052"/>
                </a:cubicBezTo>
                <a:cubicBezTo>
                  <a:pt x="1170" y="1098"/>
                  <a:pt x="1221" y="1150"/>
                  <a:pt x="1273" y="1169"/>
                </a:cubicBezTo>
                <a:cubicBezTo>
                  <a:pt x="1282" y="1167"/>
                  <a:pt x="1332" y="1161"/>
                  <a:pt x="1348" y="1152"/>
                </a:cubicBezTo>
                <a:cubicBezTo>
                  <a:pt x="1366" y="1142"/>
                  <a:pt x="1398" y="1119"/>
                  <a:pt x="1398" y="1119"/>
                </a:cubicBezTo>
                <a:cubicBezTo>
                  <a:pt x="1430" y="1069"/>
                  <a:pt x="1427" y="1083"/>
                  <a:pt x="1440" y="1043"/>
                </a:cubicBezTo>
                <a:cubicBezTo>
                  <a:pt x="1446" y="1026"/>
                  <a:pt x="1456" y="993"/>
                  <a:pt x="1456" y="993"/>
                </a:cubicBezTo>
                <a:cubicBezTo>
                  <a:pt x="1453" y="951"/>
                  <a:pt x="1455" y="909"/>
                  <a:pt x="1448" y="868"/>
                </a:cubicBezTo>
                <a:cubicBezTo>
                  <a:pt x="1446" y="858"/>
                  <a:pt x="1429" y="853"/>
                  <a:pt x="1431" y="843"/>
                </a:cubicBezTo>
                <a:cubicBezTo>
                  <a:pt x="1433" y="833"/>
                  <a:pt x="1474" y="820"/>
                  <a:pt x="1481" y="818"/>
                </a:cubicBezTo>
                <a:cubicBezTo>
                  <a:pt x="1498" y="812"/>
                  <a:pt x="1531" y="802"/>
                  <a:pt x="1531" y="802"/>
                </a:cubicBezTo>
                <a:cubicBezTo>
                  <a:pt x="1563" y="755"/>
                  <a:pt x="1581" y="632"/>
                  <a:pt x="1531" y="610"/>
                </a:cubicBezTo>
                <a:cubicBezTo>
                  <a:pt x="1513" y="602"/>
                  <a:pt x="1492" y="605"/>
                  <a:pt x="1473" y="602"/>
                </a:cubicBezTo>
                <a:cubicBezTo>
                  <a:pt x="1434" y="545"/>
                  <a:pt x="1477" y="482"/>
                  <a:pt x="1456" y="418"/>
                </a:cubicBezTo>
                <a:cubicBezTo>
                  <a:pt x="1448" y="393"/>
                  <a:pt x="1390" y="377"/>
                  <a:pt x="1390" y="377"/>
                </a:cubicBezTo>
                <a:cubicBezTo>
                  <a:pt x="1359" y="380"/>
                  <a:pt x="1328" y="390"/>
                  <a:pt x="1298" y="385"/>
                </a:cubicBezTo>
                <a:cubicBezTo>
                  <a:pt x="1289" y="384"/>
                  <a:pt x="1290" y="369"/>
                  <a:pt x="1290" y="360"/>
                </a:cubicBezTo>
                <a:cubicBezTo>
                  <a:pt x="1290" y="316"/>
                  <a:pt x="1288" y="270"/>
                  <a:pt x="1298" y="227"/>
                </a:cubicBezTo>
                <a:cubicBezTo>
                  <a:pt x="1302" y="208"/>
                  <a:pt x="1331" y="177"/>
                  <a:pt x="1331" y="177"/>
                </a:cubicBezTo>
                <a:cubicBezTo>
                  <a:pt x="1313" y="122"/>
                  <a:pt x="1282" y="111"/>
                  <a:pt x="1231" y="93"/>
                </a:cubicBezTo>
                <a:cubicBezTo>
                  <a:pt x="1185" y="106"/>
                  <a:pt x="1162" y="131"/>
                  <a:pt x="1131" y="85"/>
                </a:cubicBezTo>
                <a:cubicBezTo>
                  <a:pt x="1128" y="77"/>
                  <a:pt x="1129" y="66"/>
                  <a:pt x="1123" y="60"/>
                </a:cubicBezTo>
                <a:cubicBezTo>
                  <a:pt x="1109" y="46"/>
                  <a:pt x="1073" y="27"/>
                  <a:pt x="1073" y="27"/>
                </a:cubicBezTo>
                <a:cubicBezTo>
                  <a:pt x="1011" y="33"/>
                  <a:pt x="980" y="21"/>
                  <a:pt x="948" y="68"/>
                </a:cubicBezTo>
                <a:cubicBezTo>
                  <a:pt x="945" y="76"/>
                  <a:pt x="949" y="93"/>
                  <a:pt x="940" y="93"/>
                </a:cubicBezTo>
                <a:cubicBezTo>
                  <a:pt x="931" y="93"/>
                  <a:pt x="935" y="76"/>
                  <a:pt x="931" y="68"/>
                </a:cubicBezTo>
                <a:cubicBezTo>
                  <a:pt x="916" y="37"/>
                  <a:pt x="920" y="44"/>
                  <a:pt x="890" y="35"/>
                </a:cubicBezTo>
                <a:cubicBezTo>
                  <a:pt x="839" y="0"/>
                  <a:pt x="780" y="17"/>
                  <a:pt x="723" y="35"/>
                </a:cubicBezTo>
                <a:cubicBezTo>
                  <a:pt x="693" y="56"/>
                  <a:pt x="696" y="73"/>
                  <a:pt x="665" y="93"/>
                </a:cubicBezTo>
                <a:cubicBezTo>
                  <a:pt x="629" y="146"/>
                  <a:pt x="644" y="128"/>
                  <a:pt x="623" y="15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200400" y="5181480"/>
            <a:ext cx="838080" cy="763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410080" y="4572000"/>
            <a:ext cx="152424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6172200" y="5486400"/>
            <a:ext cx="609480" cy="1371600"/>
            <a:chOff x="6172200" y="5486400"/>
            <a:chExt cx="609480" cy="1371600"/>
          </a:xfrm>
        </p:grpSpPr>
        <p:sp>
          <p:nvSpPr>
            <p:cNvPr id="322" name=""/>
            <p:cNvSpPr/>
            <p:nvPr/>
          </p:nvSpPr>
          <p:spPr>
            <a:xfrm>
              <a:off x="6172200" y="54864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248160" y="58672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476760" y="60195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5562720" y="5791320"/>
            <a:ext cx="533160" cy="3045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041920" y="6060960"/>
            <a:ext cx="9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mast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544880" y="49528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783120" y="64008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B7280-AFFE-4F22-A047-873EE2915FA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ers do the actual lookups; they ask questions to the DNS on behalf of the client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obtained from authoritative servers but the answers forwarded to the clients are marked as not authoritat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stored for future reference in the cach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3CF06-6B58-4ECC-962A-3C5FF4833D1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ask the questions to the DNS system on behalf of the application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rmally implemented in a system library (e.g, libc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name(char *nam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addr(char *addr, int len, typ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06CC3-0F5D-46F0-AE7C-EA72C34BB77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ing process &amp; Cach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4" name=""/>
          <p:cNvSpPr/>
          <p:nvPr/>
        </p:nvSpPr>
        <p:spPr>
          <a:xfrm>
            <a:off x="152280" y="2895480"/>
            <a:ext cx="121932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l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371600" y="297180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90720" y="16765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: www.ripe.net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434960" y="266688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19520" y="2743200"/>
            <a:ext cx="1752480" cy="1295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ching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war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cursive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400800" y="190512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767120" y="20574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4572000" y="2057040"/>
            <a:ext cx="1752480" cy="10666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4572000" y="2209680"/>
            <a:ext cx="1752480" cy="10670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664600" y="2590920"/>
            <a:ext cx="302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net server @ X.gtld-servers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400800" y="342900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ld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40200" y="33066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572000" y="3581280"/>
            <a:ext cx="16002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92760" y="3962520"/>
            <a:ext cx="26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ripe server @ ns.ripe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4648320" y="3733920"/>
            <a:ext cx="175248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248520" y="5334120"/>
            <a:ext cx="2666880" cy="533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e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419720" y="4114800"/>
            <a:ext cx="1752480" cy="12952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4267080" y="4114800"/>
            <a:ext cx="1905120" cy="1447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297400" y="45720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421160" y="487692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525320" y="320040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1371600" y="312408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11480" y="4038480"/>
            <a:ext cx="622440" cy="470160"/>
          </a:xfrm>
          <a:custGeom>
            <a:avLst/>
            <a:gdLst/>
            <a:ahLst/>
            <a:rect l="l" t="t" r="r" b="b"/>
            <a:pathLst>
              <a:path w="392" h="296">
                <a:moveTo>
                  <a:pt x="56" y="0"/>
                </a:moveTo>
                <a:cubicBezTo>
                  <a:pt x="28" y="140"/>
                  <a:pt x="0" y="280"/>
                  <a:pt x="56" y="288"/>
                </a:cubicBezTo>
                <a:cubicBezTo>
                  <a:pt x="112" y="296"/>
                  <a:pt x="252" y="172"/>
                  <a:pt x="392" y="48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573640" y="4495680"/>
            <a:ext cx="102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dd to cache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465DF-F3E0-47DA-973D-6FFD2B81682E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urce records consist of it’s name, it’s TTL, it’s class, it’s type and it’s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ing parame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class is widest u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ultiple types of R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hind the type identifier is called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(more detail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4952880"/>
            <a:ext cx="73836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172200" y="4952880"/>
            <a:ext cx="3808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074000" y="4952880"/>
            <a:ext cx="22222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114800" y="4952880"/>
            <a:ext cx="843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47800" y="4952880"/>
            <a:ext cx="2886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373760" y="57913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1828800" y="5486040"/>
            <a:ext cx="492120" cy="304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581280" y="5715000"/>
            <a:ext cx="65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183280" y="601992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479280" y="57913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9211680" y="561672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data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4114800" y="5486400"/>
            <a:ext cx="316080" cy="2649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5562720" y="5410080"/>
            <a:ext cx="0" cy="5320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6324480" y="5409720"/>
            <a:ext cx="31752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 flipV="1">
            <a:off x="8445600" y="5351040"/>
            <a:ext cx="73800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40240" y="4952880"/>
            <a:ext cx="85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3600  IN  A  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05EDF-582D-427E-B974-1C9FA169187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"/>
          <p:cNvGrpSpPr/>
          <p:nvPr/>
        </p:nvGrpSpPr>
        <p:grpSpPr>
          <a:xfrm>
            <a:off x="611640" y="5486400"/>
            <a:ext cx="6924600" cy="718200"/>
            <a:chOff x="611640" y="5486400"/>
            <a:chExt cx="6924600" cy="718200"/>
          </a:xfrm>
        </p:grpSpPr>
        <p:sp>
          <p:nvSpPr>
            <p:cNvPr id="377" name=""/>
            <p:cNvSpPr/>
            <p:nvPr/>
          </p:nvSpPr>
          <p:spPr>
            <a:xfrm>
              <a:off x="37335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4193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410080" y="5486400"/>
              <a:ext cx="17524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047760" y="5486400"/>
              <a:ext cx="60984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914400" y="5486400"/>
              <a:ext cx="19810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11640" y="5867280"/>
              <a:ext cx="70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838080" y="5714640"/>
              <a:ext cx="6858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743200" y="5867280"/>
              <a:ext cx="47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t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583080" y="586728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las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650480" y="58672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860160" y="586728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data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3047760" y="5714640"/>
              <a:ext cx="2286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3962160" y="5638320"/>
              <a:ext cx="0" cy="3049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 flipV="1">
              <a:off x="4647600" y="5714640"/>
              <a:ext cx="2286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 flipV="1">
              <a:off x="6400440" y="5714640"/>
              <a:ext cx="5331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837720" y="1523520"/>
            <a:ext cx="8550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IN      SOA     ns.ripe.net.    olaf.ripe.net. (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2001061501     ; Serial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43200  ; Refresh 1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14400  ; Retry 4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345600 ; Expire 4 day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7200 ; Negative cache 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pinkje.ripe.net. 3600  IN    A       193.0.1.162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host25.ripe.net. 2600  IN    A       193.0.3.25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xample: RRs in a zone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01AC3-BD26-44EB-8D3C-E690642C7A9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 and 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and NS records are used to provide information about the DNS itself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S indicates where information about a given zone can be foun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record provides information about the start of authority, i.e. the top of the zone, also called the APEX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602360" y="3505320"/>
            <a:ext cx="786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264A5-9374-4B54-9310-E64CF105486D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4724280" y="3657600"/>
            <a:ext cx="4020120" cy="2482200"/>
            <a:chOff x="4724280" y="3657600"/>
            <a:chExt cx="4020120" cy="2482200"/>
          </a:xfrm>
        </p:grpSpPr>
        <p:sp>
          <p:nvSpPr>
            <p:cNvPr id="399" name=""/>
            <p:cNvSpPr/>
            <p:nvPr/>
          </p:nvSpPr>
          <p:spPr>
            <a:xfrm>
              <a:off x="4724280" y="3657600"/>
              <a:ext cx="3810240" cy="1143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 flipV="1">
              <a:off x="6476760" y="4571640"/>
              <a:ext cx="228600" cy="10666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04800" y="5680080"/>
              <a:ext cx="273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Timing paramet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2666880" y="1868400"/>
            <a:ext cx="3139920" cy="1484280"/>
            <a:chOff x="2666880" y="1868400"/>
            <a:chExt cx="3139920" cy="1484280"/>
          </a:xfrm>
        </p:grpSpPr>
        <p:sp>
          <p:nvSpPr>
            <p:cNvPr id="403" name=""/>
            <p:cNvSpPr/>
            <p:nvPr/>
          </p:nvSpPr>
          <p:spPr>
            <a:xfrm>
              <a:off x="2666880" y="3048120"/>
              <a:ext cx="2819520" cy="3045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643200" y="1868400"/>
              <a:ext cx="21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Master serv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90760" y="2438280"/>
              <a:ext cx="7596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5486400" y="1944720"/>
            <a:ext cx="3696480" cy="1407960"/>
            <a:chOff x="5486400" y="1944720"/>
            <a:chExt cx="3696480" cy="1407960"/>
          </a:xfrm>
        </p:grpSpPr>
        <p:sp>
          <p:nvSpPr>
            <p:cNvPr id="407" name=""/>
            <p:cNvSpPr/>
            <p:nvPr/>
          </p:nvSpPr>
          <p:spPr>
            <a:xfrm>
              <a:off x="5486400" y="3048120"/>
              <a:ext cx="3276720" cy="30456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615720" y="1944720"/>
              <a:ext cx="256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ntact addres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7010280" y="2438280"/>
              <a:ext cx="53352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824760" y="3352680"/>
            <a:ext cx="7709760" cy="1337760"/>
            <a:chOff x="824760" y="3352680"/>
            <a:chExt cx="7709760" cy="1337760"/>
          </a:xfrm>
        </p:grpSpPr>
        <p:sp>
          <p:nvSpPr>
            <p:cNvPr id="411" name=""/>
            <p:cNvSpPr/>
            <p:nvPr/>
          </p:nvSpPr>
          <p:spPr>
            <a:xfrm>
              <a:off x="4724280" y="3352680"/>
              <a:ext cx="3810240" cy="304920"/>
            </a:xfrm>
            <a:prstGeom prst="rect">
              <a:avLst/>
            </a:prstGeom>
            <a:solidFill>
              <a:srgbClr val="99ff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24760" y="4230720"/>
              <a:ext cx="25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Version numb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3429000" y="3505320"/>
              <a:ext cx="1447920" cy="8380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305640" y="3048120"/>
            <a:ext cx="8821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et. 3600 IN SOA  A.GTLD-SERVERS.net. nstld.verisign-grs.com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5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D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829008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C8D07-3D19-4207-91AA-B8BF2DD038E2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TTL and other Tim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er used in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 indication for how long the data may be re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that is expected to be ‘stable’ can have high TTL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re used for maintaining consistency between primary and secondary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46375-0FBB-4A45-B312-A75E15E7B54C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7543800" y="4419720"/>
            <a:ext cx="0" cy="53316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8001000" y="5257800"/>
            <a:ext cx="68580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laces where DNS data liv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1905120" y="3733920"/>
            <a:ext cx="609480" cy="1371600"/>
            <a:chOff x="1905120" y="3733920"/>
            <a:chExt cx="609480" cy="1371600"/>
          </a:xfrm>
        </p:grpSpPr>
        <p:sp>
          <p:nvSpPr>
            <p:cNvPr id="422" name=""/>
            <p:cNvSpPr/>
            <p:nvPr/>
          </p:nvSpPr>
          <p:spPr>
            <a:xfrm>
              <a:off x="1905120" y="3733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981080" y="4114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209680" y="4267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3657600" y="6019560"/>
            <a:ext cx="1371600" cy="228600"/>
            <a:chOff x="3657600" y="6019560"/>
            <a:chExt cx="1371600" cy="228600"/>
          </a:xfrm>
        </p:grpSpPr>
        <p:sp>
          <p:nvSpPr>
            <p:cNvPr id="426" name=""/>
            <p:cNvSpPr/>
            <p:nvPr/>
          </p:nvSpPr>
          <p:spPr>
            <a:xfrm rot="16200000">
              <a:off x="4228920" y="54478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16200000">
              <a:off x="4019400" y="61243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6200000">
              <a:off x="4443120" y="58528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6781680" y="4190760"/>
            <a:ext cx="1371600" cy="228600"/>
            <a:chOff x="6781680" y="4190760"/>
            <a:chExt cx="1371600" cy="228600"/>
          </a:xfrm>
        </p:grpSpPr>
        <p:sp>
          <p:nvSpPr>
            <p:cNvPr id="430" name=""/>
            <p:cNvSpPr/>
            <p:nvPr/>
          </p:nvSpPr>
          <p:spPr>
            <a:xfrm rot="16200000">
              <a:off x="7353000" y="36190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16200000">
              <a:off x="7143480" y="42955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16200000">
              <a:off x="7567200" y="40240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457200" y="4724280"/>
            <a:ext cx="609480" cy="83844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54080" y="556272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egistry DB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982880" y="50292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Mast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126240" y="61722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183280" y="22860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859800" y="36576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Cach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368720" y="1600200"/>
            <a:ext cx="71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anges in DNS do not propagate instantly!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514600" y="4495680"/>
            <a:ext cx="83808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4572000" y="35809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3809880" y="5562720"/>
            <a:ext cx="381240" cy="4572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6172200" y="42667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48120" y="3733920"/>
            <a:ext cx="3151080" cy="2184120"/>
          </a:xfrm>
          <a:custGeom>
            <a:avLst/>
            <a:gdLst/>
            <a:ahLst/>
            <a:rect l="l" t="t" r="r" b="b"/>
            <a:pathLst>
              <a:path w="1985" h="1376">
                <a:moveTo>
                  <a:pt x="621" y="92"/>
                </a:moveTo>
                <a:cubicBezTo>
                  <a:pt x="544" y="79"/>
                  <a:pt x="516" y="79"/>
                  <a:pt x="491" y="154"/>
                </a:cubicBezTo>
                <a:cubicBezTo>
                  <a:pt x="448" y="124"/>
                  <a:pt x="438" y="134"/>
                  <a:pt x="375" y="140"/>
                </a:cubicBezTo>
                <a:cubicBezTo>
                  <a:pt x="347" y="150"/>
                  <a:pt x="338" y="171"/>
                  <a:pt x="314" y="188"/>
                </a:cubicBezTo>
                <a:cubicBezTo>
                  <a:pt x="297" y="238"/>
                  <a:pt x="304" y="215"/>
                  <a:pt x="293" y="256"/>
                </a:cubicBezTo>
                <a:cubicBezTo>
                  <a:pt x="295" y="272"/>
                  <a:pt x="304" y="288"/>
                  <a:pt x="300" y="304"/>
                </a:cubicBezTo>
                <a:cubicBezTo>
                  <a:pt x="298" y="312"/>
                  <a:pt x="292" y="288"/>
                  <a:pt x="286" y="283"/>
                </a:cubicBezTo>
                <a:cubicBezTo>
                  <a:pt x="273" y="272"/>
                  <a:pt x="241" y="268"/>
                  <a:pt x="225" y="263"/>
                </a:cubicBezTo>
                <a:cubicBezTo>
                  <a:pt x="163" y="271"/>
                  <a:pt x="131" y="277"/>
                  <a:pt x="96" y="331"/>
                </a:cubicBezTo>
                <a:cubicBezTo>
                  <a:pt x="87" y="366"/>
                  <a:pt x="70" y="397"/>
                  <a:pt x="61" y="433"/>
                </a:cubicBezTo>
                <a:cubicBezTo>
                  <a:pt x="64" y="461"/>
                  <a:pt x="58" y="493"/>
                  <a:pt x="75" y="515"/>
                </a:cubicBezTo>
                <a:cubicBezTo>
                  <a:pt x="99" y="546"/>
                  <a:pt x="125" y="563"/>
                  <a:pt x="157" y="583"/>
                </a:cubicBezTo>
                <a:cubicBezTo>
                  <a:pt x="166" y="581"/>
                  <a:pt x="180" y="584"/>
                  <a:pt x="184" y="576"/>
                </a:cubicBezTo>
                <a:cubicBezTo>
                  <a:pt x="187" y="570"/>
                  <a:pt x="171" y="570"/>
                  <a:pt x="164" y="570"/>
                </a:cubicBezTo>
                <a:cubicBezTo>
                  <a:pt x="146" y="570"/>
                  <a:pt x="127" y="574"/>
                  <a:pt x="109" y="576"/>
                </a:cubicBezTo>
                <a:cubicBezTo>
                  <a:pt x="36" y="602"/>
                  <a:pt x="12" y="686"/>
                  <a:pt x="0" y="754"/>
                </a:cubicBezTo>
                <a:cubicBezTo>
                  <a:pt x="3" y="781"/>
                  <a:pt x="1" y="815"/>
                  <a:pt x="14" y="842"/>
                </a:cubicBezTo>
                <a:cubicBezTo>
                  <a:pt x="39" y="893"/>
                  <a:pt x="106" y="911"/>
                  <a:pt x="157" y="924"/>
                </a:cubicBezTo>
                <a:cubicBezTo>
                  <a:pt x="182" y="919"/>
                  <a:pt x="209" y="920"/>
                  <a:pt x="232" y="910"/>
                </a:cubicBezTo>
                <a:cubicBezTo>
                  <a:pt x="242" y="906"/>
                  <a:pt x="248" y="872"/>
                  <a:pt x="252" y="883"/>
                </a:cubicBezTo>
                <a:cubicBezTo>
                  <a:pt x="264" y="915"/>
                  <a:pt x="255" y="951"/>
                  <a:pt x="259" y="985"/>
                </a:cubicBezTo>
                <a:cubicBezTo>
                  <a:pt x="268" y="1063"/>
                  <a:pt x="384" y="1087"/>
                  <a:pt x="443" y="1108"/>
                </a:cubicBezTo>
                <a:cubicBezTo>
                  <a:pt x="464" y="1106"/>
                  <a:pt x="487" y="1111"/>
                  <a:pt x="505" y="1101"/>
                </a:cubicBezTo>
                <a:cubicBezTo>
                  <a:pt x="519" y="1093"/>
                  <a:pt x="532" y="1060"/>
                  <a:pt x="532" y="1060"/>
                </a:cubicBezTo>
                <a:cubicBezTo>
                  <a:pt x="558" y="1137"/>
                  <a:pt x="612" y="1184"/>
                  <a:pt x="682" y="1224"/>
                </a:cubicBezTo>
                <a:cubicBezTo>
                  <a:pt x="702" y="1235"/>
                  <a:pt x="728" y="1237"/>
                  <a:pt x="750" y="1245"/>
                </a:cubicBezTo>
                <a:cubicBezTo>
                  <a:pt x="779" y="1243"/>
                  <a:pt x="852" y="1253"/>
                  <a:pt x="887" y="1224"/>
                </a:cubicBezTo>
                <a:cubicBezTo>
                  <a:pt x="904" y="1210"/>
                  <a:pt x="934" y="1176"/>
                  <a:pt x="934" y="1176"/>
                </a:cubicBezTo>
                <a:cubicBezTo>
                  <a:pt x="939" y="1162"/>
                  <a:pt x="943" y="1149"/>
                  <a:pt x="948" y="1135"/>
                </a:cubicBezTo>
                <a:cubicBezTo>
                  <a:pt x="950" y="1128"/>
                  <a:pt x="955" y="1115"/>
                  <a:pt x="955" y="1115"/>
                </a:cubicBezTo>
                <a:cubicBezTo>
                  <a:pt x="975" y="1171"/>
                  <a:pt x="957" y="1130"/>
                  <a:pt x="1043" y="1217"/>
                </a:cubicBezTo>
                <a:cubicBezTo>
                  <a:pt x="1094" y="1268"/>
                  <a:pt x="1113" y="1279"/>
                  <a:pt x="1180" y="1320"/>
                </a:cubicBezTo>
                <a:cubicBezTo>
                  <a:pt x="1194" y="1329"/>
                  <a:pt x="1206" y="1342"/>
                  <a:pt x="1221" y="1347"/>
                </a:cubicBezTo>
                <a:cubicBezTo>
                  <a:pt x="1259" y="1360"/>
                  <a:pt x="1337" y="1374"/>
                  <a:pt x="1337" y="1374"/>
                </a:cubicBezTo>
                <a:cubicBezTo>
                  <a:pt x="1443" y="1364"/>
                  <a:pt x="1487" y="1376"/>
                  <a:pt x="1562" y="1326"/>
                </a:cubicBezTo>
                <a:cubicBezTo>
                  <a:pt x="1573" y="1288"/>
                  <a:pt x="1593" y="1257"/>
                  <a:pt x="1602" y="1217"/>
                </a:cubicBezTo>
                <a:cubicBezTo>
                  <a:pt x="1592" y="1055"/>
                  <a:pt x="1573" y="1097"/>
                  <a:pt x="1773" y="1081"/>
                </a:cubicBezTo>
                <a:cubicBezTo>
                  <a:pt x="1787" y="1076"/>
                  <a:pt x="1800" y="1071"/>
                  <a:pt x="1814" y="1067"/>
                </a:cubicBezTo>
                <a:cubicBezTo>
                  <a:pt x="1834" y="1062"/>
                  <a:pt x="1875" y="1054"/>
                  <a:pt x="1875" y="1054"/>
                </a:cubicBezTo>
                <a:cubicBezTo>
                  <a:pt x="1901" y="1028"/>
                  <a:pt x="1906" y="1001"/>
                  <a:pt x="1916" y="965"/>
                </a:cubicBezTo>
                <a:cubicBezTo>
                  <a:pt x="1941" y="875"/>
                  <a:pt x="1966" y="784"/>
                  <a:pt x="1984" y="692"/>
                </a:cubicBezTo>
                <a:cubicBezTo>
                  <a:pt x="1983" y="678"/>
                  <a:pt x="1985" y="611"/>
                  <a:pt x="1964" y="590"/>
                </a:cubicBezTo>
                <a:cubicBezTo>
                  <a:pt x="1953" y="579"/>
                  <a:pt x="1936" y="578"/>
                  <a:pt x="1923" y="570"/>
                </a:cubicBezTo>
                <a:cubicBezTo>
                  <a:pt x="1932" y="543"/>
                  <a:pt x="1951" y="533"/>
                  <a:pt x="1964" y="508"/>
                </a:cubicBezTo>
                <a:cubicBezTo>
                  <a:pt x="1968" y="500"/>
                  <a:pt x="1975" y="475"/>
                  <a:pt x="1977" y="467"/>
                </a:cubicBezTo>
                <a:cubicBezTo>
                  <a:pt x="1967" y="378"/>
                  <a:pt x="1948" y="354"/>
                  <a:pt x="1875" y="297"/>
                </a:cubicBezTo>
                <a:cubicBezTo>
                  <a:pt x="1856" y="282"/>
                  <a:pt x="1807" y="270"/>
                  <a:pt x="1807" y="270"/>
                </a:cubicBezTo>
                <a:cubicBezTo>
                  <a:pt x="1764" y="272"/>
                  <a:pt x="1719" y="264"/>
                  <a:pt x="1677" y="276"/>
                </a:cubicBezTo>
                <a:cubicBezTo>
                  <a:pt x="1651" y="283"/>
                  <a:pt x="1639" y="316"/>
                  <a:pt x="1616" y="331"/>
                </a:cubicBezTo>
                <a:cubicBezTo>
                  <a:pt x="1607" y="306"/>
                  <a:pt x="1611" y="313"/>
                  <a:pt x="1596" y="290"/>
                </a:cubicBezTo>
                <a:cubicBezTo>
                  <a:pt x="1515" y="167"/>
                  <a:pt x="1485" y="195"/>
                  <a:pt x="1323" y="188"/>
                </a:cubicBezTo>
                <a:cubicBezTo>
                  <a:pt x="1226" y="198"/>
                  <a:pt x="1257" y="195"/>
                  <a:pt x="1200" y="249"/>
                </a:cubicBezTo>
                <a:cubicBezTo>
                  <a:pt x="1198" y="256"/>
                  <a:pt x="1200" y="270"/>
                  <a:pt x="1193" y="270"/>
                </a:cubicBezTo>
                <a:cubicBezTo>
                  <a:pt x="1172" y="270"/>
                  <a:pt x="1170" y="232"/>
                  <a:pt x="1166" y="222"/>
                </a:cubicBezTo>
                <a:cubicBezTo>
                  <a:pt x="1156" y="199"/>
                  <a:pt x="1140" y="178"/>
                  <a:pt x="1132" y="154"/>
                </a:cubicBezTo>
                <a:cubicBezTo>
                  <a:pt x="1110" y="89"/>
                  <a:pt x="1049" y="59"/>
                  <a:pt x="989" y="38"/>
                </a:cubicBezTo>
                <a:cubicBezTo>
                  <a:pt x="904" y="43"/>
                  <a:pt x="868" y="22"/>
                  <a:pt x="818" y="72"/>
                </a:cubicBezTo>
                <a:cubicBezTo>
                  <a:pt x="765" y="53"/>
                  <a:pt x="827" y="81"/>
                  <a:pt x="791" y="45"/>
                </a:cubicBezTo>
                <a:cubicBezTo>
                  <a:pt x="764" y="18"/>
                  <a:pt x="742" y="15"/>
                  <a:pt x="709" y="4"/>
                </a:cubicBezTo>
                <a:cubicBezTo>
                  <a:pt x="680" y="6"/>
                  <a:pt x="648" y="0"/>
                  <a:pt x="621" y="11"/>
                </a:cubicBezTo>
                <a:cubicBezTo>
                  <a:pt x="606" y="17"/>
                  <a:pt x="593" y="51"/>
                  <a:pt x="593" y="51"/>
                </a:cubicBezTo>
                <a:cubicBezTo>
                  <a:pt x="582" y="85"/>
                  <a:pt x="580" y="68"/>
                  <a:pt x="621" y="9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8839080" y="5257800"/>
            <a:ext cx="685440" cy="609480"/>
            <a:chOff x="8839080" y="5257800"/>
            <a:chExt cx="685440" cy="609480"/>
          </a:xfrm>
        </p:grpSpPr>
        <p:sp>
          <p:nvSpPr>
            <p:cNvPr id="446" name=""/>
            <p:cNvSpPr/>
            <p:nvPr/>
          </p:nvSpPr>
          <p:spPr>
            <a:xfrm>
              <a:off x="8839080" y="5664240"/>
              <a:ext cx="579960" cy="1216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839080" y="5257800"/>
              <a:ext cx="579960" cy="365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997120" y="5826600"/>
              <a:ext cx="527400" cy="4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891640" y="5298480"/>
              <a:ext cx="474480" cy="28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6397560" y="4879800"/>
            <a:ext cx="1893960" cy="1489320"/>
          </a:xfrm>
          <a:custGeom>
            <a:avLst/>
            <a:gdLst/>
            <a:ahLst/>
            <a:rect l="l" t="t" r="r" b="b"/>
            <a:pathLst>
              <a:path w="1193" h="938">
                <a:moveTo>
                  <a:pt x="504" y="307"/>
                </a:moveTo>
                <a:cubicBezTo>
                  <a:pt x="453" y="310"/>
                  <a:pt x="279" y="271"/>
                  <a:pt x="225" y="348"/>
                </a:cubicBezTo>
                <a:cubicBezTo>
                  <a:pt x="225" y="351"/>
                  <a:pt x="234" y="409"/>
                  <a:pt x="239" y="417"/>
                </a:cubicBezTo>
                <a:cubicBezTo>
                  <a:pt x="244" y="425"/>
                  <a:pt x="268" y="436"/>
                  <a:pt x="259" y="437"/>
                </a:cubicBezTo>
                <a:cubicBezTo>
                  <a:pt x="222" y="439"/>
                  <a:pt x="186" y="428"/>
                  <a:pt x="150" y="423"/>
                </a:cubicBezTo>
                <a:cubicBezTo>
                  <a:pt x="61" y="432"/>
                  <a:pt x="65" y="427"/>
                  <a:pt x="48" y="505"/>
                </a:cubicBezTo>
                <a:cubicBezTo>
                  <a:pt x="54" y="540"/>
                  <a:pt x="54" y="555"/>
                  <a:pt x="89" y="567"/>
                </a:cubicBezTo>
                <a:cubicBezTo>
                  <a:pt x="87" y="574"/>
                  <a:pt x="85" y="581"/>
                  <a:pt x="82" y="587"/>
                </a:cubicBezTo>
                <a:cubicBezTo>
                  <a:pt x="78" y="594"/>
                  <a:pt x="71" y="599"/>
                  <a:pt x="68" y="607"/>
                </a:cubicBezTo>
                <a:cubicBezTo>
                  <a:pt x="52" y="646"/>
                  <a:pt x="48" y="690"/>
                  <a:pt x="34" y="730"/>
                </a:cubicBezTo>
                <a:cubicBezTo>
                  <a:pt x="41" y="781"/>
                  <a:pt x="59" y="814"/>
                  <a:pt x="102" y="846"/>
                </a:cubicBezTo>
                <a:cubicBezTo>
                  <a:pt x="128" y="866"/>
                  <a:pt x="184" y="901"/>
                  <a:pt x="184" y="901"/>
                </a:cubicBezTo>
                <a:cubicBezTo>
                  <a:pt x="359" y="891"/>
                  <a:pt x="397" y="929"/>
                  <a:pt x="491" y="832"/>
                </a:cubicBezTo>
                <a:cubicBezTo>
                  <a:pt x="513" y="898"/>
                  <a:pt x="512" y="903"/>
                  <a:pt x="586" y="928"/>
                </a:cubicBezTo>
                <a:cubicBezTo>
                  <a:pt x="777" y="920"/>
                  <a:pt x="886" y="938"/>
                  <a:pt x="1043" y="873"/>
                </a:cubicBezTo>
                <a:cubicBezTo>
                  <a:pt x="1083" y="833"/>
                  <a:pt x="1143" y="804"/>
                  <a:pt x="1166" y="751"/>
                </a:cubicBezTo>
                <a:cubicBezTo>
                  <a:pt x="1178" y="725"/>
                  <a:pt x="1193" y="669"/>
                  <a:pt x="1193" y="669"/>
                </a:cubicBezTo>
                <a:cubicBezTo>
                  <a:pt x="1191" y="635"/>
                  <a:pt x="1191" y="601"/>
                  <a:pt x="1186" y="567"/>
                </a:cubicBezTo>
                <a:cubicBezTo>
                  <a:pt x="1183" y="551"/>
                  <a:pt x="1152" y="527"/>
                  <a:pt x="1145" y="519"/>
                </a:cubicBezTo>
                <a:cubicBezTo>
                  <a:pt x="1118" y="487"/>
                  <a:pt x="1099" y="459"/>
                  <a:pt x="1057" y="444"/>
                </a:cubicBezTo>
                <a:cubicBezTo>
                  <a:pt x="1083" y="435"/>
                  <a:pt x="1107" y="429"/>
                  <a:pt x="1132" y="417"/>
                </a:cubicBezTo>
                <a:cubicBezTo>
                  <a:pt x="1141" y="408"/>
                  <a:pt x="1152" y="400"/>
                  <a:pt x="1159" y="389"/>
                </a:cubicBezTo>
                <a:cubicBezTo>
                  <a:pt x="1170" y="372"/>
                  <a:pt x="1186" y="335"/>
                  <a:pt x="1186" y="335"/>
                </a:cubicBezTo>
                <a:cubicBezTo>
                  <a:pt x="1174" y="253"/>
                  <a:pt x="1102" y="191"/>
                  <a:pt x="1023" y="178"/>
                </a:cubicBezTo>
                <a:cubicBezTo>
                  <a:pt x="998" y="182"/>
                  <a:pt x="973" y="192"/>
                  <a:pt x="948" y="192"/>
                </a:cubicBezTo>
                <a:cubicBezTo>
                  <a:pt x="941" y="192"/>
                  <a:pt x="961" y="187"/>
                  <a:pt x="968" y="185"/>
                </a:cubicBezTo>
                <a:cubicBezTo>
                  <a:pt x="957" y="96"/>
                  <a:pt x="925" y="50"/>
                  <a:pt x="839" y="28"/>
                </a:cubicBezTo>
                <a:cubicBezTo>
                  <a:pt x="780" y="35"/>
                  <a:pt x="718" y="32"/>
                  <a:pt x="661" y="48"/>
                </a:cubicBezTo>
                <a:cubicBezTo>
                  <a:pt x="643" y="88"/>
                  <a:pt x="641" y="101"/>
                  <a:pt x="689" y="89"/>
                </a:cubicBezTo>
                <a:cubicBezTo>
                  <a:pt x="738" y="13"/>
                  <a:pt x="618" y="34"/>
                  <a:pt x="566" y="28"/>
                </a:cubicBezTo>
                <a:cubicBezTo>
                  <a:pt x="516" y="22"/>
                  <a:pt x="440" y="9"/>
                  <a:pt x="389" y="1"/>
                </a:cubicBezTo>
                <a:cubicBezTo>
                  <a:pt x="357" y="3"/>
                  <a:pt x="324" y="0"/>
                  <a:pt x="293" y="7"/>
                </a:cubicBezTo>
                <a:cubicBezTo>
                  <a:pt x="259" y="15"/>
                  <a:pt x="231" y="38"/>
                  <a:pt x="198" y="48"/>
                </a:cubicBezTo>
                <a:cubicBezTo>
                  <a:pt x="167" y="79"/>
                  <a:pt x="133" y="99"/>
                  <a:pt x="102" y="130"/>
                </a:cubicBezTo>
                <a:cubicBezTo>
                  <a:pt x="86" y="182"/>
                  <a:pt x="101" y="194"/>
                  <a:pt x="48" y="205"/>
                </a:cubicBezTo>
                <a:cubicBezTo>
                  <a:pt x="39" y="210"/>
                  <a:pt x="28" y="212"/>
                  <a:pt x="20" y="219"/>
                </a:cubicBezTo>
                <a:cubicBezTo>
                  <a:pt x="0" y="235"/>
                  <a:pt x="6" y="274"/>
                  <a:pt x="27" y="287"/>
                </a:cubicBezTo>
                <a:cubicBezTo>
                  <a:pt x="35" y="292"/>
                  <a:pt x="74" y="303"/>
                  <a:pt x="89" y="307"/>
                </a:cubicBezTo>
                <a:cubicBezTo>
                  <a:pt x="154" y="301"/>
                  <a:pt x="215" y="284"/>
                  <a:pt x="279" y="273"/>
                </a:cubicBezTo>
                <a:cubicBezTo>
                  <a:pt x="297" y="275"/>
                  <a:pt x="317" y="273"/>
                  <a:pt x="334" y="280"/>
                </a:cubicBezTo>
                <a:cubicBezTo>
                  <a:pt x="342" y="283"/>
                  <a:pt x="341" y="296"/>
                  <a:pt x="348" y="301"/>
                </a:cubicBezTo>
                <a:cubicBezTo>
                  <a:pt x="353" y="305"/>
                  <a:pt x="368" y="307"/>
                  <a:pt x="368" y="307"/>
                </a:cubicBezTo>
                <a:lnTo>
                  <a:pt x="386" y="38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248520" y="4800600"/>
            <a:ext cx="1903320" cy="1407960"/>
          </a:xfrm>
          <a:custGeom>
            <a:avLst/>
            <a:gdLst/>
            <a:ahLst/>
            <a:rect l="l" t="t" r="r" b="b"/>
            <a:pathLst>
              <a:path w="1199" h="887">
                <a:moveTo>
                  <a:pt x="530" y="198"/>
                </a:moveTo>
                <a:cubicBezTo>
                  <a:pt x="475" y="160"/>
                  <a:pt x="486" y="171"/>
                  <a:pt x="394" y="178"/>
                </a:cubicBezTo>
                <a:cubicBezTo>
                  <a:pt x="378" y="194"/>
                  <a:pt x="370" y="199"/>
                  <a:pt x="360" y="219"/>
                </a:cubicBezTo>
                <a:cubicBezTo>
                  <a:pt x="357" y="225"/>
                  <a:pt x="358" y="234"/>
                  <a:pt x="353" y="239"/>
                </a:cubicBezTo>
                <a:cubicBezTo>
                  <a:pt x="351" y="241"/>
                  <a:pt x="348" y="234"/>
                  <a:pt x="346" y="232"/>
                </a:cubicBezTo>
                <a:cubicBezTo>
                  <a:pt x="311" y="169"/>
                  <a:pt x="318" y="196"/>
                  <a:pt x="244" y="205"/>
                </a:cubicBezTo>
                <a:cubicBezTo>
                  <a:pt x="180" y="222"/>
                  <a:pt x="136" y="255"/>
                  <a:pt x="114" y="321"/>
                </a:cubicBezTo>
                <a:cubicBezTo>
                  <a:pt x="122" y="414"/>
                  <a:pt x="108" y="392"/>
                  <a:pt x="162" y="430"/>
                </a:cubicBezTo>
                <a:cubicBezTo>
                  <a:pt x="148" y="432"/>
                  <a:pt x="111" y="434"/>
                  <a:pt x="94" y="444"/>
                </a:cubicBezTo>
                <a:cubicBezTo>
                  <a:pt x="80" y="452"/>
                  <a:pt x="53" y="471"/>
                  <a:pt x="53" y="471"/>
                </a:cubicBezTo>
                <a:cubicBezTo>
                  <a:pt x="0" y="574"/>
                  <a:pt x="62" y="662"/>
                  <a:pt x="149" y="716"/>
                </a:cubicBezTo>
                <a:cubicBezTo>
                  <a:pt x="167" y="714"/>
                  <a:pt x="186" y="704"/>
                  <a:pt x="203" y="709"/>
                </a:cubicBezTo>
                <a:cubicBezTo>
                  <a:pt x="210" y="711"/>
                  <a:pt x="196" y="723"/>
                  <a:pt x="196" y="730"/>
                </a:cubicBezTo>
                <a:cubicBezTo>
                  <a:pt x="196" y="762"/>
                  <a:pt x="194" y="795"/>
                  <a:pt x="203" y="825"/>
                </a:cubicBezTo>
                <a:cubicBezTo>
                  <a:pt x="214" y="862"/>
                  <a:pt x="253" y="879"/>
                  <a:pt x="285" y="887"/>
                </a:cubicBezTo>
                <a:cubicBezTo>
                  <a:pt x="359" y="878"/>
                  <a:pt x="420" y="869"/>
                  <a:pt x="489" y="846"/>
                </a:cubicBezTo>
                <a:cubicBezTo>
                  <a:pt x="533" y="816"/>
                  <a:pt x="575" y="794"/>
                  <a:pt x="626" y="778"/>
                </a:cubicBezTo>
                <a:cubicBezTo>
                  <a:pt x="695" y="707"/>
                  <a:pt x="606" y="790"/>
                  <a:pt x="694" y="737"/>
                </a:cubicBezTo>
                <a:cubicBezTo>
                  <a:pt x="732" y="714"/>
                  <a:pt x="761" y="649"/>
                  <a:pt x="783" y="614"/>
                </a:cubicBezTo>
                <a:cubicBezTo>
                  <a:pt x="781" y="600"/>
                  <a:pt x="767" y="562"/>
                  <a:pt x="776" y="573"/>
                </a:cubicBezTo>
                <a:cubicBezTo>
                  <a:pt x="843" y="651"/>
                  <a:pt x="724" y="597"/>
                  <a:pt x="830" y="655"/>
                </a:cubicBezTo>
                <a:cubicBezTo>
                  <a:pt x="840" y="661"/>
                  <a:pt x="853" y="660"/>
                  <a:pt x="864" y="662"/>
                </a:cubicBezTo>
                <a:cubicBezTo>
                  <a:pt x="935" y="657"/>
                  <a:pt x="969" y="656"/>
                  <a:pt x="1028" y="628"/>
                </a:cubicBezTo>
                <a:cubicBezTo>
                  <a:pt x="1070" y="586"/>
                  <a:pt x="1085" y="550"/>
                  <a:pt x="1096" y="491"/>
                </a:cubicBezTo>
                <a:cubicBezTo>
                  <a:pt x="1099" y="473"/>
                  <a:pt x="1089" y="449"/>
                  <a:pt x="1103" y="437"/>
                </a:cubicBezTo>
                <a:cubicBezTo>
                  <a:pt x="1119" y="423"/>
                  <a:pt x="1144" y="432"/>
                  <a:pt x="1165" y="430"/>
                </a:cubicBezTo>
                <a:cubicBezTo>
                  <a:pt x="1191" y="412"/>
                  <a:pt x="1191" y="400"/>
                  <a:pt x="1199" y="369"/>
                </a:cubicBezTo>
                <a:cubicBezTo>
                  <a:pt x="1197" y="339"/>
                  <a:pt x="1198" y="309"/>
                  <a:pt x="1192" y="280"/>
                </a:cubicBezTo>
                <a:cubicBezTo>
                  <a:pt x="1184" y="240"/>
                  <a:pt x="1124" y="214"/>
                  <a:pt x="1096" y="191"/>
                </a:cubicBezTo>
                <a:cubicBezTo>
                  <a:pt x="1052" y="155"/>
                  <a:pt x="1064" y="133"/>
                  <a:pt x="987" y="109"/>
                </a:cubicBezTo>
                <a:cubicBezTo>
                  <a:pt x="918" y="87"/>
                  <a:pt x="853" y="66"/>
                  <a:pt x="783" y="48"/>
                </a:cubicBezTo>
                <a:cubicBezTo>
                  <a:pt x="798" y="0"/>
                  <a:pt x="810" y="12"/>
                  <a:pt x="776" y="0"/>
                </a:cubicBezTo>
                <a:cubicBezTo>
                  <a:pt x="744" y="2"/>
                  <a:pt x="712" y="2"/>
                  <a:pt x="680" y="7"/>
                </a:cubicBezTo>
                <a:cubicBezTo>
                  <a:pt x="666" y="9"/>
                  <a:pt x="639" y="21"/>
                  <a:pt x="639" y="21"/>
                </a:cubicBezTo>
                <a:cubicBezTo>
                  <a:pt x="627" y="40"/>
                  <a:pt x="627" y="45"/>
                  <a:pt x="605" y="55"/>
                </a:cubicBezTo>
                <a:cubicBezTo>
                  <a:pt x="592" y="61"/>
                  <a:pt x="564" y="69"/>
                  <a:pt x="564" y="69"/>
                </a:cubicBezTo>
                <a:cubicBezTo>
                  <a:pt x="543" y="90"/>
                  <a:pt x="526" y="92"/>
                  <a:pt x="510" y="116"/>
                </a:cubicBezTo>
                <a:cubicBezTo>
                  <a:pt x="515" y="149"/>
                  <a:pt x="518" y="169"/>
                  <a:pt x="530" y="198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29400" y="3276720"/>
            <a:ext cx="29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ot going to net if TTL&gt;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209320" y="2438280"/>
            <a:ext cx="292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Might take up to refresh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o get data from master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-1080" y="3962520"/>
            <a:ext cx="2247120" cy="1142640"/>
            <a:chOff x="-1080" y="3962520"/>
            <a:chExt cx="2247120" cy="1142640"/>
          </a:xfrm>
        </p:grpSpPr>
        <p:sp>
          <p:nvSpPr>
            <p:cNvPr id="455" name=""/>
            <p:cNvSpPr/>
            <p:nvPr/>
          </p:nvSpPr>
          <p:spPr>
            <a:xfrm flipV="1">
              <a:off x="1066680" y="4723920"/>
              <a:ext cx="685800" cy="38124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-1080" y="3962520"/>
              <a:ext cx="2247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Upload of zone </a:t>
              </a:r>
              <a:br>
                <a:rPr sz="2000"/>
              </a:b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data is local policy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 flipH="1" flipV="1">
            <a:off x="8229240" y="441972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flipV="1">
            <a:off x="8077320" y="45720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7924320" y="457200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2514240" y="3352680"/>
            <a:ext cx="2438280" cy="5335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8305920" y="43434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flipV="1">
            <a:off x="8152920" y="449568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5029200" y="2590920"/>
            <a:ext cx="609480" cy="1371600"/>
            <a:chOff x="5029200" y="2590920"/>
            <a:chExt cx="609480" cy="1371600"/>
          </a:xfrm>
        </p:grpSpPr>
        <p:sp>
          <p:nvSpPr>
            <p:cNvPr id="464" name=""/>
            <p:cNvSpPr/>
            <p:nvPr/>
          </p:nvSpPr>
          <p:spPr>
            <a:xfrm>
              <a:off x="5029200" y="2590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105160" y="2971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333760" y="3124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 flipH="1" flipV="1">
            <a:off x="5714640" y="3352320"/>
            <a:ext cx="1219320" cy="7621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 flipV="1">
            <a:off x="5791320" y="3276720"/>
            <a:ext cx="1218960" cy="76176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ACE26-0446-435E-BD85-4CB128FBA2FD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addresses 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address is how you get to an endpoi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hierarchical (for scaling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950 Charter Street, Redwood City CA, 9406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204.152.187.11, +1-650-381-600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” is how an endpoint is referenc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no structurally significant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vid”, “Tokyo”, “itu.int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F55F7-325F-428B-A692-397E115073E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 remember..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84996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authoritative servers to distribute load and risk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t your name servers apart from each oth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ches to reduce load to authoritative servers and reduce response ti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nd TTL need to be tuned to needs of zone. Stable data: higher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DD8E5-3878-4161-9B28-40317D911426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ve we learne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are we about to learn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learned about the architecture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sol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ching forward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iming paramet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continue writing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1AD22-1BDF-492B-ACE9-D1A4EF998FE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riting a zone file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written by the zone administrato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read by the master server and it’s content is replicated to slav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is in the zone file will end up in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ecause of timing issues it might take some time before the data is actually visible at the client sid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BB6DD-EFEE-480F-991A-230537CBC066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First attemp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‘header’ of the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tart with a SOA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clude authoritative name servers and, if needed, glu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 other inform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other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to other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2A1DA-03DD-45FB-B1AB-7B2541D7CC10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SOA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8" name=""/>
          <p:cNvSpPr/>
          <p:nvPr/>
        </p:nvSpPr>
        <p:spPr>
          <a:xfrm>
            <a:off x="764280" y="1981080"/>
            <a:ext cx="8776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14400" y="3962520"/>
            <a:ext cx="84996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laf.Kolkman@ripe.net </a:t>
            </a:r>
            <a:r>
              <a:rPr b="0" lang="en-US" sz="2800" spc="-1" strike="noStrike">
                <a:solidFill>
                  <a:srgbClr val="010000"/>
                </a:solidFill>
                <a:latin typeface="Monotype Sorts"/>
                <a:ea typeface="Monotype Sorts"/>
              </a:rPr>
              <a:t>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laf\.kolkman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ial number: 32bit circular arithmeti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eople often use dat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 be increased after edi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timers above qualify as reason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7467480" y="878040"/>
            <a:ext cx="1893600" cy="1788840"/>
            <a:chOff x="7467480" y="878040"/>
            <a:chExt cx="1893600" cy="1788840"/>
          </a:xfrm>
        </p:grpSpPr>
        <p:sp>
          <p:nvSpPr>
            <p:cNvPr id="481" name=""/>
            <p:cNvSpPr/>
            <p:nvPr/>
          </p:nvSpPr>
          <p:spPr>
            <a:xfrm>
              <a:off x="7606080" y="878040"/>
              <a:ext cx="175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men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7467480" y="1447920"/>
              <a:ext cx="457200" cy="1218960"/>
            </a:xfrm>
            <a:prstGeom prst="line">
              <a:avLst/>
            </a:prstGeom>
            <a:ln w="28440">
              <a:solidFill>
                <a:srgbClr val="01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4038480" y="1066680"/>
            <a:ext cx="3200400" cy="1067040"/>
            <a:chOff x="4038480" y="1066680"/>
            <a:chExt cx="3200400" cy="1067040"/>
          </a:xfrm>
        </p:grpSpPr>
        <p:sp>
          <p:nvSpPr>
            <p:cNvPr id="484" name=""/>
            <p:cNvSpPr/>
            <p:nvPr/>
          </p:nvSpPr>
          <p:spPr>
            <a:xfrm>
              <a:off x="4038480" y="1066680"/>
              <a:ext cx="170820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Line break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943600" y="1371600"/>
              <a:ext cx="1295280" cy="762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27036-AD43-4263-B65E-1FAB1600502E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S records and related A record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90720" y="3581280"/>
            <a:ext cx="86868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S record for all the authoritativ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y need to carry the zone at the moment you publis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records only for “in-zone” nam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legating NS records might have glue associated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19320" y="2133720"/>
            <a:ext cx="8074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20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ACD9D-D487-4A5B-8AA7-CE4C1B150692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‘APEX’ dat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155240" y="3886200"/>
            <a:ext cx="417852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s for mai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ee next slid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tion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64640" y="1676520"/>
            <a:ext cx="8958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50 mailhos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150 mailhost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LOC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   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52 21 23.0 N 04 57 05.5 E 0m 100m 100m 100m 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TXT  “Demonstration and test zone”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257800" y="3733920"/>
            <a:ext cx="41781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TXT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A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KEY records for dnssec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9E376-976E-42BA-80DC-579488A20AC1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mezzo: MX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MTP (simple mail transfer protocol) uses MX records to find the destination mail serve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a mail is sent to olaf@ripe.net the sending mail agent looks up ‘ripe.net MX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 contains mail relays with priority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lower the number the higher the priorit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add MX records without having a mail relay configur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6ECF1-896A-4869-A7A6-73D804376C52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data in the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3581280"/>
            <a:ext cx="84996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the other data to your zon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 notes on nota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fully qualified domain name including trailing dot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TL and CLA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066680" y="20574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localhost.secret-wg.org. 3600 IN A 127.0.0.1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  4500 IN A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.secret-wg.org.   3600 IN CNAME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3F04D-5092-4017-826D-AA978E26244F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762120" y="1657440"/>
            <a:ext cx="8540640" cy="41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36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ice format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F5A52-6778-4CC7-BC96-D4FC7383471E}" type="slidenum">
              <a:t>3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ing Histor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70’s ARPA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st.txt maintained by the SRI-NI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lled from a single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affic and loa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 collis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onsistenc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reated in 1983 by Paul Mockapetris (RFCs 1034 and 1035), modified, updated, and enhanced by a myriad of subsequent RFC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82963-C609-4564-B6F1-BB99C9D1DE6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914400" y="1646280"/>
            <a:ext cx="8540640" cy="437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45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repeating last nam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00794-D2DD-43FF-B906-BD6F2A1E9047}" type="slidenum">
              <a:t>4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914400" y="1603440"/>
            <a:ext cx="8540640" cy="456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45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default TT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0A282-22ED-486F-8704-220A385C9754}" type="slidenum">
              <a:t>4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914400" y="1603440"/>
            <a:ext cx="8540640" cy="475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ORIGIN 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@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SOA bert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ORIGI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DD511-6625-4B7C-8A57-A39AE2AAADE3}" type="slidenum">
              <a:t>4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991800" y="4113360"/>
            <a:ext cx="6270840" cy="1925640"/>
            <a:chOff x="991800" y="4113360"/>
            <a:chExt cx="6270840" cy="1925640"/>
          </a:xfrm>
        </p:grpSpPr>
        <p:sp>
          <p:nvSpPr>
            <p:cNvPr id="507" name=""/>
            <p:cNvSpPr/>
            <p:nvPr/>
          </p:nvSpPr>
          <p:spPr>
            <a:xfrm>
              <a:off x="2514600" y="4495680"/>
              <a:ext cx="2286000" cy="3812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991800" y="41133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568760" y="4556160"/>
              <a:ext cx="2693880" cy="1482840"/>
            </a:xfrm>
            <a:custGeom>
              <a:avLst/>
              <a:gdLst/>
              <a:ahLst/>
              <a:rect l="l" t="t" r="r" b="b"/>
              <a:pathLst>
                <a:path w="1697" h="934">
                  <a:moveTo>
                    <a:pt x="757" y="75"/>
                  </a:moveTo>
                  <a:cubicBezTo>
                    <a:pt x="704" y="57"/>
                    <a:pt x="649" y="49"/>
                    <a:pt x="594" y="41"/>
                  </a:cubicBezTo>
                  <a:cubicBezTo>
                    <a:pt x="548" y="25"/>
                    <a:pt x="504" y="10"/>
                    <a:pt x="457" y="0"/>
                  </a:cubicBezTo>
                  <a:cubicBezTo>
                    <a:pt x="351" y="6"/>
                    <a:pt x="252" y="6"/>
                    <a:pt x="164" y="68"/>
                  </a:cubicBezTo>
                  <a:cubicBezTo>
                    <a:pt x="144" y="96"/>
                    <a:pt x="117" y="116"/>
                    <a:pt x="96" y="143"/>
                  </a:cubicBezTo>
                  <a:cubicBezTo>
                    <a:pt x="86" y="156"/>
                    <a:pt x="68" y="184"/>
                    <a:pt x="68" y="184"/>
                  </a:cubicBezTo>
                  <a:cubicBezTo>
                    <a:pt x="58" y="217"/>
                    <a:pt x="52" y="239"/>
                    <a:pt x="34" y="266"/>
                  </a:cubicBezTo>
                  <a:cubicBezTo>
                    <a:pt x="32" y="273"/>
                    <a:pt x="31" y="280"/>
                    <a:pt x="28" y="286"/>
                  </a:cubicBezTo>
                  <a:cubicBezTo>
                    <a:pt x="24" y="294"/>
                    <a:pt x="17" y="299"/>
                    <a:pt x="14" y="307"/>
                  </a:cubicBezTo>
                  <a:cubicBezTo>
                    <a:pt x="7" y="329"/>
                    <a:pt x="0" y="375"/>
                    <a:pt x="0" y="375"/>
                  </a:cubicBezTo>
                  <a:cubicBezTo>
                    <a:pt x="6" y="440"/>
                    <a:pt x="1" y="525"/>
                    <a:pt x="62" y="566"/>
                  </a:cubicBezTo>
                  <a:cubicBezTo>
                    <a:pt x="94" y="613"/>
                    <a:pt x="76" y="597"/>
                    <a:pt x="109" y="620"/>
                  </a:cubicBezTo>
                  <a:cubicBezTo>
                    <a:pt x="142" y="669"/>
                    <a:pt x="203" y="679"/>
                    <a:pt x="259" y="695"/>
                  </a:cubicBezTo>
                  <a:cubicBezTo>
                    <a:pt x="318" y="712"/>
                    <a:pt x="376" y="739"/>
                    <a:pt x="437" y="750"/>
                  </a:cubicBezTo>
                  <a:cubicBezTo>
                    <a:pt x="518" y="765"/>
                    <a:pt x="600" y="772"/>
                    <a:pt x="682" y="777"/>
                  </a:cubicBezTo>
                  <a:cubicBezTo>
                    <a:pt x="739" y="780"/>
                    <a:pt x="796" y="782"/>
                    <a:pt x="853" y="784"/>
                  </a:cubicBezTo>
                  <a:cubicBezTo>
                    <a:pt x="879" y="789"/>
                    <a:pt x="903" y="796"/>
                    <a:pt x="928" y="804"/>
                  </a:cubicBezTo>
                  <a:cubicBezTo>
                    <a:pt x="966" y="830"/>
                    <a:pt x="1012" y="838"/>
                    <a:pt x="1057" y="845"/>
                  </a:cubicBezTo>
                  <a:cubicBezTo>
                    <a:pt x="1102" y="860"/>
                    <a:pt x="1139" y="867"/>
                    <a:pt x="1187" y="872"/>
                  </a:cubicBezTo>
                  <a:cubicBezTo>
                    <a:pt x="1254" y="871"/>
                    <a:pt x="1537" y="934"/>
                    <a:pt x="1664" y="845"/>
                  </a:cubicBezTo>
                  <a:cubicBezTo>
                    <a:pt x="1697" y="797"/>
                    <a:pt x="1688" y="701"/>
                    <a:pt x="1637" y="668"/>
                  </a:cubicBezTo>
                  <a:cubicBezTo>
                    <a:pt x="1595" y="606"/>
                    <a:pt x="1651" y="679"/>
                    <a:pt x="1603" y="641"/>
                  </a:cubicBezTo>
                  <a:cubicBezTo>
                    <a:pt x="1596" y="636"/>
                    <a:pt x="1595" y="626"/>
                    <a:pt x="1589" y="620"/>
                  </a:cubicBezTo>
                  <a:cubicBezTo>
                    <a:pt x="1568" y="598"/>
                    <a:pt x="1532" y="583"/>
                    <a:pt x="1507" y="566"/>
                  </a:cubicBezTo>
                  <a:cubicBezTo>
                    <a:pt x="1493" y="557"/>
                    <a:pt x="1478" y="550"/>
                    <a:pt x="1466" y="538"/>
                  </a:cubicBezTo>
                  <a:cubicBezTo>
                    <a:pt x="1459" y="531"/>
                    <a:pt x="1453" y="524"/>
                    <a:pt x="1446" y="518"/>
                  </a:cubicBezTo>
                  <a:cubicBezTo>
                    <a:pt x="1418" y="496"/>
                    <a:pt x="1392" y="489"/>
                    <a:pt x="1364" y="470"/>
                  </a:cubicBezTo>
                  <a:cubicBezTo>
                    <a:pt x="1331" y="423"/>
                    <a:pt x="1243" y="358"/>
                    <a:pt x="1187" y="341"/>
                  </a:cubicBezTo>
                  <a:cubicBezTo>
                    <a:pt x="1073" y="263"/>
                    <a:pt x="1020" y="243"/>
                    <a:pt x="880" y="232"/>
                  </a:cubicBezTo>
                  <a:cubicBezTo>
                    <a:pt x="804" y="216"/>
                    <a:pt x="831" y="231"/>
                    <a:pt x="791" y="204"/>
                  </a:cubicBezTo>
                  <a:cubicBezTo>
                    <a:pt x="781" y="177"/>
                    <a:pt x="773" y="149"/>
                    <a:pt x="764" y="122"/>
                  </a:cubicBezTo>
                  <a:cubicBezTo>
                    <a:pt x="761" y="114"/>
                    <a:pt x="745" y="117"/>
                    <a:pt x="744" y="109"/>
                  </a:cubicBezTo>
                  <a:cubicBezTo>
                    <a:pt x="742" y="97"/>
                    <a:pt x="753" y="86"/>
                    <a:pt x="757" y="75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a zone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(becoming a parent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authority for a sub domain to another party (splitting of disi.ripe.net from ripe.net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839160" y="4876920"/>
            <a:ext cx="6539400" cy="1182600"/>
            <a:chOff x="839160" y="4876920"/>
            <a:chExt cx="6539400" cy="1182600"/>
          </a:xfrm>
        </p:grpSpPr>
        <p:sp>
          <p:nvSpPr>
            <p:cNvPr id="513" name=""/>
            <p:cNvSpPr/>
            <p:nvPr/>
          </p:nvSpPr>
          <p:spPr>
            <a:xfrm>
              <a:off x="5608800" y="487692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971800" y="551664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39160" y="513396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4572000" y="2892960"/>
            <a:ext cx="5013000" cy="3053160"/>
            <a:chOff x="4572000" y="2892960"/>
            <a:chExt cx="5013000" cy="3053160"/>
          </a:xfrm>
        </p:grpSpPr>
        <p:grpSp>
          <p:nvGrpSpPr>
            <p:cNvPr id="517" name=""/>
            <p:cNvGrpSpPr/>
            <p:nvPr/>
          </p:nvGrpSpPr>
          <p:grpSpPr>
            <a:xfrm>
              <a:off x="4572000" y="2892960"/>
              <a:ext cx="4586040" cy="3053160"/>
              <a:chOff x="4572000" y="2892960"/>
              <a:chExt cx="4586040" cy="3053160"/>
            </a:xfrm>
          </p:grpSpPr>
          <p:sp>
            <p:nvSpPr>
              <p:cNvPr id="518" name=""/>
              <p:cNvSpPr/>
              <p:nvPr/>
            </p:nvSpPr>
            <p:spPr>
              <a:xfrm>
                <a:off x="579096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238880" y="32767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333760" y="41148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572000" y="49528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772400" y="51055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55308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324480" y="41911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696080" y="411480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6188040" y="5178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562360" y="48769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58332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8672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V="1">
                <a:off x="5197320" y="44928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V="1">
                <a:off x="663084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V="1">
                <a:off x="7635960" y="3654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V="1">
                <a:off x="8002440" y="46454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V="1">
                <a:off x="564048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V="1">
                <a:off x="6630840" y="2892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536" name=""/>
              <p:cNvGrpSpPr/>
              <p:nvPr/>
            </p:nvGrpSpPr>
            <p:grpSpPr>
              <a:xfrm>
                <a:off x="5181120" y="3200400"/>
                <a:ext cx="2971800" cy="2438280"/>
                <a:chOff x="5181120" y="3200400"/>
                <a:chExt cx="2971800" cy="2438280"/>
              </a:xfrm>
            </p:grpSpPr>
            <p:sp>
              <p:nvSpPr>
                <p:cNvPr id="537" name=""/>
                <p:cNvSpPr/>
                <p:nvPr/>
              </p:nvSpPr>
              <p:spPr>
                <a:xfrm flipH="1">
                  <a:off x="8044920" y="49528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 flipH="1">
                  <a:off x="6207840" y="320040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6802200" y="327600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6910200" y="320040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 flipH="1">
                  <a:off x="5883480" y="3733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 flipH="1">
                  <a:off x="5667120" y="403848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 flipH="1">
                  <a:off x="5451480" y="44956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 flipH="1">
                  <a:off x="5181120" y="4876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5451480" y="48006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6045840" y="518148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 flipH="1">
                  <a:off x="6207480" y="5486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6478200" y="548640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6856560" y="38095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 flipH="1">
                  <a:off x="6693840" y="41148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7504920" y="365760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7828920" y="396216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8044920" y="457200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5397480" y="487656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5" name=""/>
              <p:cNvSpPr/>
              <p:nvPr/>
            </p:nvSpPr>
            <p:spPr>
              <a:xfrm>
                <a:off x="5029200" y="51814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556" name=""/>
            <p:cNvSpPr/>
            <p:nvPr/>
          </p:nvSpPr>
          <p:spPr>
            <a:xfrm>
              <a:off x="7848360" y="3886200"/>
              <a:ext cx="53316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7467480" y="3962160"/>
              <a:ext cx="3042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7619760" y="3962160"/>
              <a:ext cx="15192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935760" y="40384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011720" y="4495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307000" y="373356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F2AFA-EC1E-4073-9821-819911ED1FB3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s done by adding NS record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w to get to ns1 and ns2… We need the address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glue records to so that resolvers can reach ns1 and ns2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 A 10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 A 10.0.0.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B1712-7E0B-41FC-880D-13CD1E502B0F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"/>
          <p:cNvGrpSpPr/>
          <p:nvPr/>
        </p:nvGrpSpPr>
        <p:grpSpPr>
          <a:xfrm>
            <a:off x="2271240" y="3124080"/>
            <a:ext cx="6415560" cy="2861640"/>
            <a:chOff x="2271240" y="3124080"/>
            <a:chExt cx="6415560" cy="2861640"/>
          </a:xfrm>
        </p:grpSpPr>
        <p:sp>
          <p:nvSpPr>
            <p:cNvPr id="565" name=""/>
            <p:cNvSpPr/>
            <p:nvPr/>
          </p:nvSpPr>
          <p:spPr>
            <a:xfrm>
              <a:off x="5105520" y="3124080"/>
              <a:ext cx="3581280" cy="609840"/>
            </a:xfrm>
            <a:prstGeom prst="ellips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3200040" y="3581280"/>
              <a:ext cx="2133720" cy="19051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271240" y="5526000"/>
              <a:ext cx="419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Only this record needs glu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 (continued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lue is ‘non-authoritative’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include glue for servers that are not in sub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992160" y="3276720"/>
            <a:ext cx="7983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.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2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.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992520" y="4343400"/>
            <a:ext cx="5636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 A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10.0.0.1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62BE3-42C5-4EA0-BE8E-5E86EFB3021E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disi.ripe.net. from ripe.net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23624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i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up minimum two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reate zone file with NS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disi.ripe.net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40972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NS records and g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re is no other data from the disi.ripe.net. zone in the zone file.`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A40CE-584C-485D-ABD3-DF0CE916A7B5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ecoming a chil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y your domain at favorite regis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 up your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er the name servers: your registry will communicate the name servers to the registrar who will make sure the name servers are publish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is process might take hours-day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rars may require a sensible setup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BD522-0FAD-41CE-A169-A8D8722169F9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lookup mechanism for translating objects into other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globally distributed, loosely coherent, scalable, reliable, dynamic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prised of three componen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 space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s making that name space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(clients) which query the servers about the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A3EED-8B8D-4AA1-AC52-8C3B256B235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Global Distribu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maintained locally, but retrievable globall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o single computer has all DNS dat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lookups can be performed by any devi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ote DNS data is locally cachable to improve performan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958ED-D23F-4691-B59A-200161160F1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Loose Coherenc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database is always internally consist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Each version of a subset of the database (a zone) has a serial numb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he serial number is incremented on each database chang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hanges to the master copy of the database are replicated according to timing set by the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ached data expires according to timeout set by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26E58-912D-41BB-A2E9-ED1B8874454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Scal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size of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server has over 20,000,000 nam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ot a particularly good ide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number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24,000 queries per second handled easi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distributed among masters, slaves, and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340DC-0894-4100-9910-E45F85ECA41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Reli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replicat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ata from master is copied to multiple slave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can que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aster serv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ny of the copies at slave server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will typically query local cach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protocols can use either UDP or TC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f UDP, DNS protocol handles retransmission, sequencing, etc.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CF605-069A-409D-9999-1B4F2F105C4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Olaf M. Kolkman</dc:creator>
  <dc:description/>
  <dc:language>en-US</dc:language>
  <cp:lastModifiedBy>Marmaduke Wildebeeste</cp:lastModifiedBy>
  <cp:lastPrinted>2003-02-19T04:33:52Z</cp:lastPrinted>
  <dcterms:modified xsi:type="dcterms:W3CDTF">2003-06-01T20:44:05Z</dcterms:modified>
  <cp:revision>38</cp:revision>
  <dc:subject/>
  <dc:title>PowerPoint Presentation  -  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